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digipot.net/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056520" y="115920"/>
            <a:ext cx="709920" cy="382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5320" y="6643800"/>
            <a:ext cx="287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©2012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igipot.net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All rights reserve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073240" y="2276640"/>
            <a:ext cx="1008000" cy="28872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abc7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6824520" y="2276640"/>
            <a:ext cx="1008360" cy="28872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488880" y="691920"/>
            <a:ext cx="4176720" cy="1583280"/>
            <a:chOff x="488880" y="691920"/>
            <a:chExt cx="4176720" cy="1583280"/>
          </a:xfrm>
        </p:grpSpPr>
        <p:sp>
          <p:nvSpPr>
            <p:cNvPr id="41" name=""/>
            <p:cNvSpPr/>
            <p:nvPr/>
          </p:nvSpPr>
          <p:spPr>
            <a:xfrm>
              <a:off x="488880" y="692280"/>
              <a:ext cx="4176720" cy="15829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0800000">
              <a:off x="488880" y="691560"/>
              <a:ext cx="4176720" cy="158292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88880" y="1221840"/>
              <a:ext cx="4176720" cy="105300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5240160" y="691920"/>
            <a:ext cx="4176720" cy="1583280"/>
            <a:chOff x="5240160" y="691920"/>
            <a:chExt cx="4176720" cy="1583280"/>
          </a:xfrm>
        </p:grpSpPr>
        <p:sp>
          <p:nvSpPr>
            <p:cNvPr id="45" name=""/>
            <p:cNvSpPr/>
            <p:nvPr/>
          </p:nvSpPr>
          <p:spPr>
            <a:xfrm>
              <a:off x="5240160" y="692280"/>
              <a:ext cx="4176720" cy="158292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0800000">
              <a:off x="5240160" y="691560"/>
              <a:ext cx="4176720" cy="15829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40160" y="1221840"/>
              <a:ext cx="4176720" cy="105300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2073240" y="4149720"/>
            <a:ext cx="1008000" cy="289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abc7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24520" y="4149720"/>
            <a:ext cx="1008360" cy="289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88880" y="2565000"/>
            <a:ext cx="4176720" cy="1583280"/>
            <a:chOff x="488880" y="2565000"/>
            <a:chExt cx="4176720" cy="1583280"/>
          </a:xfrm>
        </p:grpSpPr>
        <p:sp>
          <p:nvSpPr>
            <p:cNvPr id="51" name=""/>
            <p:cNvSpPr/>
            <p:nvPr/>
          </p:nvSpPr>
          <p:spPr>
            <a:xfrm>
              <a:off x="488880" y="2565360"/>
              <a:ext cx="4176720" cy="15829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0800000">
              <a:off x="488880" y="2564640"/>
              <a:ext cx="4176720" cy="158292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88880" y="3094920"/>
              <a:ext cx="4176720" cy="105300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240160" y="2565000"/>
            <a:ext cx="4176720" cy="1583280"/>
            <a:chOff x="5240160" y="2565000"/>
            <a:chExt cx="4176720" cy="1583280"/>
          </a:xfrm>
        </p:grpSpPr>
        <p:sp>
          <p:nvSpPr>
            <p:cNvPr id="55" name=""/>
            <p:cNvSpPr/>
            <p:nvPr/>
          </p:nvSpPr>
          <p:spPr>
            <a:xfrm>
              <a:off x="5240160" y="2565360"/>
              <a:ext cx="4176720" cy="158292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5240160" y="2564640"/>
              <a:ext cx="4176720" cy="15829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40160" y="3094920"/>
              <a:ext cx="4176720" cy="105300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88880" y="4436640"/>
            <a:ext cx="4176720" cy="1583280"/>
            <a:chOff x="488880" y="4436640"/>
            <a:chExt cx="4176720" cy="1583280"/>
          </a:xfrm>
        </p:grpSpPr>
        <p:sp>
          <p:nvSpPr>
            <p:cNvPr id="59" name=""/>
            <p:cNvSpPr/>
            <p:nvPr/>
          </p:nvSpPr>
          <p:spPr>
            <a:xfrm>
              <a:off x="488880" y="4437000"/>
              <a:ext cx="4176720" cy="15829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0800000">
              <a:off x="488880" y="4436640"/>
              <a:ext cx="4176720" cy="158292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88880" y="4966560"/>
              <a:ext cx="4176720" cy="105300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240160" y="4436640"/>
            <a:ext cx="4176720" cy="1583280"/>
            <a:chOff x="5240160" y="4436640"/>
            <a:chExt cx="4176720" cy="1583280"/>
          </a:xfrm>
        </p:grpSpPr>
        <p:sp>
          <p:nvSpPr>
            <p:cNvPr id="63" name=""/>
            <p:cNvSpPr/>
            <p:nvPr/>
          </p:nvSpPr>
          <p:spPr>
            <a:xfrm>
              <a:off x="5240160" y="4437000"/>
              <a:ext cx="4176720" cy="158292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0800000">
              <a:off x="5240160" y="4436640"/>
              <a:ext cx="4176720" cy="15829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240160" y="4966560"/>
              <a:ext cx="4176720" cy="105300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448160" y="1268280"/>
            <a:ext cx="1008000" cy="21780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c7e2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488880" y="692280"/>
            <a:ext cx="8928000" cy="576000"/>
            <a:chOff x="488880" y="692280"/>
            <a:chExt cx="8928000" cy="576000"/>
          </a:xfrm>
        </p:grpSpPr>
        <p:sp>
          <p:nvSpPr>
            <p:cNvPr id="366" name=""/>
            <p:cNvSpPr/>
            <p:nvPr/>
          </p:nvSpPr>
          <p:spPr>
            <a:xfrm>
              <a:off x="488880" y="692280"/>
              <a:ext cx="8928000" cy="57600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10800000">
              <a:off x="488880" y="691920"/>
              <a:ext cx="8928000" cy="57600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88880" y="884880"/>
              <a:ext cx="8928000" cy="38340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4448160" y="2060640"/>
            <a:ext cx="1008000" cy="21744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c7e2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488880" y="1483920"/>
            <a:ext cx="8928000" cy="576720"/>
            <a:chOff x="488880" y="1483920"/>
            <a:chExt cx="8928000" cy="576720"/>
          </a:xfrm>
        </p:grpSpPr>
        <p:sp>
          <p:nvSpPr>
            <p:cNvPr id="371" name=""/>
            <p:cNvSpPr/>
            <p:nvPr/>
          </p:nvSpPr>
          <p:spPr>
            <a:xfrm>
              <a:off x="488880" y="1484280"/>
              <a:ext cx="8928000" cy="57636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10800000">
              <a:off x="488880" y="1483560"/>
              <a:ext cx="8928000" cy="57636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88880" y="1676880"/>
              <a:ext cx="8928000" cy="38340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4448160" y="2852640"/>
            <a:ext cx="1008000" cy="21744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c7e2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488880" y="2276640"/>
            <a:ext cx="8928000" cy="576000"/>
            <a:chOff x="488880" y="2276640"/>
            <a:chExt cx="8928000" cy="576000"/>
          </a:xfrm>
        </p:grpSpPr>
        <p:sp>
          <p:nvSpPr>
            <p:cNvPr id="376" name=""/>
            <p:cNvSpPr/>
            <p:nvPr/>
          </p:nvSpPr>
          <p:spPr>
            <a:xfrm>
              <a:off x="488880" y="2276640"/>
              <a:ext cx="8928000" cy="57600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10800000">
              <a:off x="488880" y="2276280"/>
              <a:ext cx="8928000" cy="57600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8880" y="2469240"/>
              <a:ext cx="8928000" cy="38340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4448160" y="3645000"/>
            <a:ext cx="1008000" cy="21744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c7e2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488880" y="3068280"/>
            <a:ext cx="8928000" cy="576720"/>
            <a:chOff x="488880" y="3068280"/>
            <a:chExt cx="8928000" cy="576720"/>
          </a:xfrm>
        </p:grpSpPr>
        <p:sp>
          <p:nvSpPr>
            <p:cNvPr id="381" name=""/>
            <p:cNvSpPr/>
            <p:nvPr/>
          </p:nvSpPr>
          <p:spPr>
            <a:xfrm>
              <a:off x="488880" y="3068640"/>
              <a:ext cx="8928000" cy="57636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10800000">
              <a:off x="488880" y="3067920"/>
              <a:ext cx="8928000" cy="57636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8880" y="3261240"/>
              <a:ext cx="8928000" cy="38340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4448160" y="4437000"/>
            <a:ext cx="1008000" cy="21744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c7e2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488880" y="3860280"/>
            <a:ext cx="8928000" cy="576720"/>
            <a:chOff x="488880" y="3860280"/>
            <a:chExt cx="8928000" cy="576720"/>
          </a:xfrm>
        </p:grpSpPr>
        <p:sp>
          <p:nvSpPr>
            <p:cNvPr id="386" name=""/>
            <p:cNvSpPr/>
            <p:nvPr/>
          </p:nvSpPr>
          <p:spPr>
            <a:xfrm>
              <a:off x="488880" y="3860640"/>
              <a:ext cx="8928000" cy="57636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10800000">
              <a:off x="488880" y="3859920"/>
              <a:ext cx="8928000" cy="57636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88880" y="4053240"/>
              <a:ext cx="8928000" cy="38340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4448160" y="5229360"/>
            <a:ext cx="1008000" cy="21744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c7e2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88880" y="4652640"/>
            <a:ext cx="8928000" cy="576720"/>
            <a:chOff x="488880" y="4652640"/>
            <a:chExt cx="8928000" cy="576720"/>
          </a:xfrm>
        </p:grpSpPr>
        <p:sp>
          <p:nvSpPr>
            <p:cNvPr id="391" name=""/>
            <p:cNvSpPr/>
            <p:nvPr/>
          </p:nvSpPr>
          <p:spPr>
            <a:xfrm>
              <a:off x="488880" y="4653000"/>
              <a:ext cx="8928000" cy="57636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10800000">
              <a:off x="488880" y="4652280"/>
              <a:ext cx="8928000" cy="57636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88880" y="4845600"/>
              <a:ext cx="8928000" cy="38340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488880" y="5444640"/>
            <a:ext cx="8928000" cy="576720"/>
            <a:chOff x="488880" y="5444640"/>
            <a:chExt cx="8928000" cy="576720"/>
          </a:xfrm>
        </p:grpSpPr>
        <p:sp>
          <p:nvSpPr>
            <p:cNvPr id="395" name=""/>
            <p:cNvSpPr/>
            <p:nvPr/>
          </p:nvSpPr>
          <p:spPr>
            <a:xfrm>
              <a:off x="488880" y="5445000"/>
              <a:ext cx="8928000" cy="57636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10800000">
              <a:off x="488880" y="5444280"/>
              <a:ext cx="8928000" cy="57636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88880" y="5637600"/>
              <a:ext cx="8928000" cy="38340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2073240" y="5516640"/>
            <a:ext cx="1008000" cy="20772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abc7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488880" y="5733720"/>
            <a:ext cx="4176720" cy="503280"/>
            <a:chOff x="488880" y="5733720"/>
            <a:chExt cx="4176720" cy="503280"/>
          </a:xfrm>
        </p:grpSpPr>
        <p:sp>
          <p:nvSpPr>
            <p:cNvPr id="400" name=""/>
            <p:cNvSpPr/>
            <p:nvPr/>
          </p:nvSpPr>
          <p:spPr>
            <a:xfrm>
              <a:off x="488880" y="5734080"/>
              <a:ext cx="4176720" cy="5029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10800000">
              <a:off x="488880" y="5733720"/>
              <a:ext cx="4176720" cy="50292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88880" y="5902200"/>
              <a:ext cx="4176720" cy="33444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6824520" y="5516640"/>
            <a:ext cx="1008360" cy="20772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240160" y="5733720"/>
            <a:ext cx="4176720" cy="503280"/>
            <a:chOff x="5240160" y="5733720"/>
            <a:chExt cx="4176720" cy="503280"/>
          </a:xfrm>
        </p:grpSpPr>
        <p:sp>
          <p:nvSpPr>
            <p:cNvPr id="405" name=""/>
            <p:cNvSpPr/>
            <p:nvPr/>
          </p:nvSpPr>
          <p:spPr>
            <a:xfrm>
              <a:off x="5240160" y="5734080"/>
              <a:ext cx="4176720" cy="50292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10800000">
              <a:off x="5240160" y="5733720"/>
              <a:ext cx="4176720" cy="5029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240160" y="5902200"/>
              <a:ext cx="4176720" cy="33444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2073240" y="4795920"/>
            <a:ext cx="1008000" cy="20772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abc7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488880" y="5013000"/>
            <a:ext cx="4176720" cy="503280"/>
            <a:chOff x="488880" y="5013000"/>
            <a:chExt cx="4176720" cy="503280"/>
          </a:xfrm>
        </p:grpSpPr>
        <p:sp>
          <p:nvSpPr>
            <p:cNvPr id="410" name=""/>
            <p:cNvSpPr/>
            <p:nvPr/>
          </p:nvSpPr>
          <p:spPr>
            <a:xfrm>
              <a:off x="488880" y="5013360"/>
              <a:ext cx="4176720" cy="5029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10800000">
              <a:off x="488880" y="5013000"/>
              <a:ext cx="4176720" cy="50292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880" y="5181480"/>
              <a:ext cx="4176720" cy="33444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6824520" y="4795920"/>
            <a:ext cx="1008360" cy="20772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5240160" y="5013000"/>
            <a:ext cx="4176720" cy="503280"/>
            <a:chOff x="5240160" y="5013000"/>
            <a:chExt cx="4176720" cy="503280"/>
          </a:xfrm>
        </p:grpSpPr>
        <p:sp>
          <p:nvSpPr>
            <p:cNvPr id="415" name=""/>
            <p:cNvSpPr/>
            <p:nvPr/>
          </p:nvSpPr>
          <p:spPr>
            <a:xfrm>
              <a:off x="5240160" y="5013360"/>
              <a:ext cx="4176720" cy="50292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0800000">
              <a:off x="5240160" y="5013000"/>
              <a:ext cx="4176720" cy="5029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40160" y="5181480"/>
              <a:ext cx="4176720" cy="33444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2073240" y="4076640"/>
            <a:ext cx="100800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abc7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488880" y="4293720"/>
            <a:ext cx="4176720" cy="503280"/>
            <a:chOff x="488880" y="4293720"/>
            <a:chExt cx="4176720" cy="503280"/>
          </a:xfrm>
        </p:grpSpPr>
        <p:sp>
          <p:nvSpPr>
            <p:cNvPr id="420" name=""/>
            <p:cNvSpPr/>
            <p:nvPr/>
          </p:nvSpPr>
          <p:spPr>
            <a:xfrm>
              <a:off x="488880" y="4294080"/>
              <a:ext cx="4176720" cy="5029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10800000">
              <a:off x="488880" y="4293720"/>
              <a:ext cx="4176720" cy="50292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8880" y="4462200"/>
              <a:ext cx="4176720" cy="33444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6824520" y="4076640"/>
            <a:ext cx="100836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5240160" y="4293720"/>
            <a:ext cx="4176720" cy="503280"/>
            <a:chOff x="5240160" y="4293720"/>
            <a:chExt cx="4176720" cy="503280"/>
          </a:xfrm>
        </p:grpSpPr>
        <p:sp>
          <p:nvSpPr>
            <p:cNvPr id="425" name=""/>
            <p:cNvSpPr/>
            <p:nvPr/>
          </p:nvSpPr>
          <p:spPr>
            <a:xfrm>
              <a:off x="5240160" y="4294080"/>
              <a:ext cx="4176720" cy="50292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0800000">
              <a:off x="5240160" y="4293720"/>
              <a:ext cx="4176720" cy="5029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240160" y="4462200"/>
              <a:ext cx="4176720" cy="33444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2073240" y="3355920"/>
            <a:ext cx="100800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abc7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88880" y="3573000"/>
            <a:ext cx="4176720" cy="503280"/>
            <a:chOff x="488880" y="3573000"/>
            <a:chExt cx="4176720" cy="503280"/>
          </a:xfrm>
        </p:grpSpPr>
        <p:sp>
          <p:nvSpPr>
            <p:cNvPr id="430" name=""/>
            <p:cNvSpPr/>
            <p:nvPr/>
          </p:nvSpPr>
          <p:spPr>
            <a:xfrm>
              <a:off x="488880" y="3573360"/>
              <a:ext cx="4176720" cy="5029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0800000">
              <a:off x="488880" y="3573000"/>
              <a:ext cx="4176720" cy="50292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8880" y="3741480"/>
              <a:ext cx="4176720" cy="33444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6824520" y="3355920"/>
            <a:ext cx="100836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5240160" y="3573000"/>
            <a:ext cx="4176720" cy="503280"/>
            <a:chOff x="5240160" y="3573000"/>
            <a:chExt cx="4176720" cy="503280"/>
          </a:xfrm>
        </p:grpSpPr>
        <p:sp>
          <p:nvSpPr>
            <p:cNvPr id="435" name=""/>
            <p:cNvSpPr/>
            <p:nvPr/>
          </p:nvSpPr>
          <p:spPr>
            <a:xfrm>
              <a:off x="5240160" y="3573360"/>
              <a:ext cx="4176720" cy="50292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10800000">
              <a:off x="5240160" y="3573000"/>
              <a:ext cx="4176720" cy="5029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240160" y="3741480"/>
              <a:ext cx="4176720" cy="33444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2073240" y="2637000"/>
            <a:ext cx="1008000" cy="20772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abc7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488880" y="2854080"/>
            <a:ext cx="4176720" cy="503280"/>
            <a:chOff x="488880" y="2854080"/>
            <a:chExt cx="4176720" cy="503280"/>
          </a:xfrm>
        </p:grpSpPr>
        <p:sp>
          <p:nvSpPr>
            <p:cNvPr id="440" name=""/>
            <p:cNvSpPr/>
            <p:nvPr/>
          </p:nvSpPr>
          <p:spPr>
            <a:xfrm>
              <a:off x="488880" y="2854440"/>
              <a:ext cx="4176720" cy="5029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0800000">
              <a:off x="488880" y="2853720"/>
              <a:ext cx="4176720" cy="50292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8880" y="3022560"/>
              <a:ext cx="4176720" cy="33444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6824520" y="2637000"/>
            <a:ext cx="1008360" cy="20772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5240160" y="2854080"/>
            <a:ext cx="4176720" cy="503280"/>
            <a:chOff x="5240160" y="2854080"/>
            <a:chExt cx="4176720" cy="503280"/>
          </a:xfrm>
        </p:grpSpPr>
        <p:sp>
          <p:nvSpPr>
            <p:cNvPr id="445" name=""/>
            <p:cNvSpPr/>
            <p:nvPr/>
          </p:nvSpPr>
          <p:spPr>
            <a:xfrm>
              <a:off x="5240160" y="2854440"/>
              <a:ext cx="4176720" cy="50292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10800000">
              <a:off x="5240160" y="2853720"/>
              <a:ext cx="4176720" cy="5029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240160" y="3022560"/>
              <a:ext cx="4176720" cy="33444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2073240" y="1916280"/>
            <a:ext cx="1008000" cy="20772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abc7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488880" y="2133360"/>
            <a:ext cx="4176720" cy="503280"/>
            <a:chOff x="488880" y="2133360"/>
            <a:chExt cx="4176720" cy="503280"/>
          </a:xfrm>
        </p:grpSpPr>
        <p:sp>
          <p:nvSpPr>
            <p:cNvPr id="450" name=""/>
            <p:cNvSpPr/>
            <p:nvPr/>
          </p:nvSpPr>
          <p:spPr>
            <a:xfrm>
              <a:off x="488880" y="2133720"/>
              <a:ext cx="4176720" cy="5029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0800000">
              <a:off x="488880" y="2133000"/>
              <a:ext cx="4176720" cy="50292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880" y="2301840"/>
              <a:ext cx="4176720" cy="33444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6824520" y="1916280"/>
            <a:ext cx="1008360" cy="20772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5240160" y="2133360"/>
            <a:ext cx="4176720" cy="503280"/>
            <a:chOff x="5240160" y="2133360"/>
            <a:chExt cx="4176720" cy="503280"/>
          </a:xfrm>
        </p:grpSpPr>
        <p:sp>
          <p:nvSpPr>
            <p:cNvPr id="455" name=""/>
            <p:cNvSpPr/>
            <p:nvPr/>
          </p:nvSpPr>
          <p:spPr>
            <a:xfrm>
              <a:off x="5240160" y="2133720"/>
              <a:ext cx="4176720" cy="50292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0800000">
              <a:off x="5240160" y="2133000"/>
              <a:ext cx="4176720" cy="5029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240160" y="2301840"/>
              <a:ext cx="4176720" cy="33444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2073240" y="1197000"/>
            <a:ext cx="100800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abc7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488880" y="1414080"/>
            <a:ext cx="4176720" cy="503280"/>
            <a:chOff x="488880" y="1414080"/>
            <a:chExt cx="4176720" cy="503280"/>
          </a:xfrm>
        </p:grpSpPr>
        <p:sp>
          <p:nvSpPr>
            <p:cNvPr id="460" name=""/>
            <p:cNvSpPr/>
            <p:nvPr/>
          </p:nvSpPr>
          <p:spPr>
            <a:xfrm>
              <a:off x="488880" y="1414440"/>
              <a:ext cx="4176720" cy="5029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0800000">
              <a:off x="488880" y="1413720"/>
              <a:ext cx="4176720" cy="50292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8880" y="1582560"/>
              <a:ext cx="4176720" cy="33444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6824520" y="1197000"/>
            <a:ext cx="100836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5240160" y="1414080"/>
            <a:ext cx="4176720" cy="503280"/>
            <a:chOff x="5240160" y="1414080"/>
            <a:chExt cx="4176720" cy="503280"/>
          </a:xfrm>
        </p:grpSpPr>
        <p:sp>
          <p:nvSpPr>
            <p:cNvPr id="465" name=""/>
            <p:cNvSpPr/>
            <p:nvPr/>
          </p:nvSpPr>
          <p:spPr>
            <a:xfrm>
              <a:off x="5240160" y="1414440"/>
              <a:ext cx="4176720" cy="50292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0800000">
              <a:off x="5240160" y="1413720"/>
              <a:ext cx="4176720" cy="5029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240160" y="1582560"/>
              <a:ext cx="4176720" cy="33444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488880" y="693360"/>
            <a:ext cx="4176720" cy="503280"/>
            <a:chOff x="488880" y="693360"/>
            <a:chExt cx="4176720" cy="503280"/>
          </a:xfrm>
        </p:grpSpPr>
        <p:sp>
          <p:nvSpPr>
            <p:cNvPr id="469" name=""/>
            <p:cNvSpPr/>
            <p:nvPr/>
          </p:nvSpPr>
          <p:spPr>
            <a:xfrm>
              <a:off x="488880" y="693720"/>
              <a:ext cx="4176720" cy="5029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0800000">
              <a:off x="488880" y="693000"/>
              <a:ext cx="4176720" cy="50292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88880" y="861840"/>
              <a:ext cx="4176720" cy="33444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5240160" y="693360"/>
            <a:ext cx="4176720" cy="503280"/>
            <a:chOff x="5240160" y="693360"/>
            <a:chExt cx="4176720" cy="503280"/>
          </a:xfrm>
        </p:grpSpPr>
        <p:sp>
          <p:nvSpPr>
            <p:cNvPr id="473" name=""/>
            <p:cNvSpPr/>
            <p:nvPr/>
          </p:nvSpPr>
          <p:spPr>
            <a:xfrm>
              <a:off x="5240160" y="693720"/>
              <a:ext cx="4176720" cy="50292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0800000">
              <a:off x="5240160" y="693000"/>
              <a:ext cx="4176720" cy="5029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240160" y="861840"/>
              <a:ext cx="4176720" cy="33444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4448160" y="1197000"/>
            <a:ext cx="1008000" cy="21744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c7e2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488880" y="692280"/>
            <a:ext cx="8928000" cy="504720"/>
            <a:chOff x="488880" y="692280"/>
            <a:chExt cx="8928000" cy="504720"/>
          </a:xfrm>
        </p:grpSpPr>
        <p:sp>
          <p:nvSpPr>
            <p:cNvPr id="478" name=""/>
            <p:cNvSpPr/>
            <p:nvPr/>
          </p:nvSpPr>
          <p:spPr>
            <a:xfrm>
              <a:off x="488880" y="692280"/>
              <a:ext cx="8928000" cy="50472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10800000">
              <a:off x="488880" y="691920"/>
              <a:ext cx="8928000" cy="50472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88880" y="861120"/>
              <a:ext cx="8928000" cy="33588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4448160" y="1917720"/>
            <a:ext cx="1008000" cy="21744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c7e2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88880" y="1413000"/>
            <a:ext cx="8928000" cy="504720"/>
            <a:chOff x="488880" y="1413000"/>
            <a:chExt cx="8928000" cy="504720"/>
          </a:xfrm>
        </p:grpSpPr>
        <p:sp>
          <p:nvSpPr>
            <p:cNvPr id="483" name=""/>
            <p:cNvSpPr/>
            <p:nvPr/>
          </p:nvSpPr>
          <p:spPr>
            <a:xfrm>
              <a:off x="488880" y="1413000"/>
              <a:ext cx="8928000" cy="50472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10800000">
              <a:off x="488880" y="1412640"/>
              <a:ext cx="8928000" cy="50472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88880" y="1581840"/>
              <a:ext cx="8928000" cy="33588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4448160" y="2638440"/>
            <a:ext cx="1008000" cy="21744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c7e2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488880" y="2133720"/>
            <a:ext cx="8928000" cy="504720"/>
            <a:chOff x="488880" y="2133720"/>
            <a:chExt cx="8928000" cy="504720"/>
          </a:xfrm>
        </p:grpSpPr>
        <p:sp>
          <p:nvSpPr>
            <p:cNvPr id="488" name=""/>
            <p:cNvSpPr/>
            <p:nvPr/>
          </p:nvSpPr>
          <p:spPr>
            <a:xfrm>
              <a:off x="488880" y="2133720"/>
              <a:ext cx="8928000" cy="50472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10800000">
              <a:off x="488880" y="2133360"/>
              <a:ext cx="8928000" cy="50472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88880" y="2302560"/>
              <a:ext cx="8928000" cy="33588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4448160" y="3357720"/>
            <a:ext cx="1008000" cy="21744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c7e2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88880" y="2852280"/>
            <a:ext cx="8928000" cy="505440"/>
            <a:chOff x="488880" y="2852280"/>
            <a:chExt cx="8928000" cy="505440"/>
          </a:xfrm>
        </p:grpSpPr>
        <p:sp>
          <p:nvSpPr>
            <p:cNvPr id="493" name=""/>
            <p:cNvSpPr/>
            <p:nvPr/>
          </p:nvSpPr>
          <p:spPr>
            <a:xfrm>
              <a:off x="488880" y="2852640"/>
              <a:ext cx="8928000" cy="50508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0800000">
              <a:off x="488880" y="2851920"/>
              <a:ext cx="8928000" cy="50508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88880" y="3021480"/>
              <a:ext cx="8928000" cy="33624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4448160" y="4078440"/>
            <a:ext cx="1008000" cy="21744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c7e2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488880" y="3573000"/>
            <a:ext cx="8928000" cy="505440"/>
            <a:chOff x="488880" y="3573000"/>
            <a:chExt cx="8928000" cy="505440"/>
          </a:xfrm>
        </p:grpSpPr>
        <p:sp>
          <p:nvSpPr>
            <p:cNvPr id="498" name=""/>
            <p:cNvSpPr/>
            <p:nvPr/>
          </p:nvSpPr>
          <p:spPr>
            <a:xfrm>
              <a:off x="488880" y="3573360"/>
              <a:ext cx="8928000" cy="50508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10800000">
              <a:off x="488880" y="3572640"/>
              <a:ext cx="8928000" cy="50508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88880" y="3742200"/>
              <a:ext cx="8928000" cy="33624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4448160" y="4799160"/>
            <a:ext cx="1008000" cy="21744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c7e2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488880" y="4293720"/>
            <a:ext cx="8928000" cy="505440"/>
            <a:chOff x="488880" y="4293720"/>
            <a:chExt cx="8928000" cy="505440"/>
          </a:xfrm>
        </p:grpSpPr>
        <p:sp>
          <p:nvSpPr>
            <p:cNvPr id="503" name=""/>
            <p:cNvSpPr/>
            <p:nvPr/>
          </p:nvSpPr>
          <p:spPr>
            <a:xfrm>
              <a:off x="488880" y="4294080"/>
              <a:ext cx="8928000" cy="50508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10800000">
              <a:off x="488880" y="4293360"/>
              <a:ext cx="8928000" cy="50508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88880" y="4462920"/>
              <a:ext cx="8928000" cy="33624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4448160" y="5518080"/>
            <a:ext cx="1008000" cy="21744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c7e2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488880" y="5013360"/>
            <a:ext cx="8928000" cy="504720"/>
            <a:chOff x="488880" y="5013360"/>
            <a:chExt cx="8928000" cy="504720"/>
          </a:xfrm>
        </p:grpSpPr>
        <p:sp>
          <p:nvSpPr>
            <p:cNvPr id="508" name=""/>
            <p:cNvSpPr/>
            <p:nvPr/>
          </p:nvSpPr>
          <p:spPr>
            <a:xfrm>
              <a:off x="488880" y="5013360"/>
              <a:ext cx="8928000" cy="50472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10800000">
              <a:off x="488880" y="5013000"/>
              <a:ext cx="8928000" cy="50472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88880" y="5182200"/>
              <a:ext cx="8928000" cy="33588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488880" y="5734080"/>
            <a:ext cx="8928000" cy="504720"/>
            <a:chOff x="488880" y="5734080"/>
            <a:chExt cx="8928000" cy="504720"/>
          </a:xfrm>
        </p:grpSpPr>
        <p:sp>
          <p:nvSpPr>
            <p:cNvPr id="512" name=""/>
            <p:cNvSpPr/>
            <p:nvPr/>
          </p:nvSpPr>
          <p:spPr>
            <a:xfrm>
              <a:off x="488880" y="5734080"/>
              <a:ext cx="8928000" cy="50472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10800000">
              <a:off x="488880" y="5733720"/>
              <a:ext cx="8928000" cy="50472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88880" y="5902920"/>
              <a:ext cx="8928000" cy="33588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2073240" y="5661000"/>
            <a:ext cx="100800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abc7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824520" y="5661000"/>
            <a:ext cx="100836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073240" y="5013360"/>
            <a:ext cx="100800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abc7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824520" y="5013360"/>
            <a:ext cx="100836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073240" y="4363920"/>
            <a:ext cx="100800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abc7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824520" y="4363920"/>
            <a:ext cx="100836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073240" y="3716280"/>
            <a:ext cx="100800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abc7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824520" y="3716280"/>
            <a:ext cx="100836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073240" y="3070080"/>
            <a:ext cx="100800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abc7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824520" y="3070080"/>
            <a:ext cx="100836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073240" y="2422440"/>
            <a:ext cx="100800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abc7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824520" y="2422440"/>
            <a:ext cx="100836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073240" y="1773360"/>
            <a:ext cx="1008000" cy="20772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abc7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824520" y="1773360"/>
            <a:ext cx="1008360" cy="20772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073240" y="1125360"/>
            <a:ext cx="100800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abc7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824520" y="1125360"/>
            <a:ext cx="100836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488880" y="5877000"/>
            <a:ext cx="4176720" cy="431280"/>
            <a:chOff x="488880" y="5877000"/>
            <a:chExt cx="4176720" cy="431280"/>
          </a:xfrm>
        </p:grpSpPr>
        <p:sp>
          <p:nvSpPr>
            <p:cNvPr id="532" name=""/>
            <p:cNvSpPr/>
            <p:nvPr/>
          </p:nvSpPr>
          <p:spPr>
            <a:xfrm>
              <a:off x="488880" y="5877000"/>
              <a:ext cx="4176720" cy="43128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10800000">
              <a:off x="488880" y="5877000"/>
              <a:ext cx="4176720" cy="43128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88880" y="6021360"/>
              <a:ext cx="4176720" cy="28692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5240160" y="5877000"/>
            <a:ext cx="4176720" cy="431280"/>
            <a:chOff x="5240160" y="5877000"/>
            <a:chExt cx="4176720" cy="431280"/>
          </a:xfrm>
        </p:grpSpPr>
        <p:sp>
          <p:nvSpPr>
            <p:cNvPr id="536" name=""/>
            <p:cNvSpPr/>
            <p:nvPr/>
          </p:nvSpPr>
          <p:spPr>
            <a:xfrm>
              <a:off x="5240160" y="5877000"/>
              <a:ext cx="4176720" cy="43128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10800000">
              <a:off x="5240160" y="5877000"/>
              <a:ext cx="4176720" cy="43128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40160" y="6021360"/>
              <a:ext cx="4176720" cy="28692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488880" y="5229360"/>
            <a:ext cx="4176720" cy="431280"/>
            <a:chOff x="488880" y="5229360"/>
            <a:chExt cx="4176720" cy="431280"/>
          </a:xfrm>
        </p:grpSpPr>
        <p:sp>
          <p:nvSpPr>
            <p:cNvPr id="540" name=""/>
            <p:cNvSpPr/>
            <p:nvPr/>
          </p:nvSpPr>
          <p:spPr>
            <a:xfrm>
              <a:off x="488880" y="5229360"/>
              <a:ext cx="4176720" cy="43128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10800000">
              <a:off x="488880" y="5229360"/>
              <a:ext cx="4176720" cy="43128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88880" y="5373720"/>
              <a:ext cx="4176720" cy="28692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5240160" y="5229360"/>
            <a:ext cx="4176720" cy="431280"/>
            <a:chOff x="5240160" y="5229360"/>
            <a:chExt cx="4176720" cy="431280"/>
          </a:xfrm>
        </p:grpSpPr>
        <p:sp>
          <p:nvSpPr>
            <p:cNvPr id="544" name=""/>
            <p:cNvSpPr/>
            <p:nvPr/>
          </p:nvSpPr>
          <p:spPr>
            <a:xfrm>
              <a:off x="5240160" y="5229360"/>
              <a:ext cx="4176720" cy="43128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10800000">
              <a:off x="5240160" y="5229360"/>
              <a:ext cx="4176720" cy="43128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240160" y="5373720"/>
              <a:ext cx="4176720" cy="28692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88880" y="4581000"/>
            <a:ext cx="4176720" cy="432000"/>
            <a:chOff x="488880" y="4581000"/>
            <a:chExt cx="4176720" cy="432000"/>
          </a:xfrm>
        </p:grpSpPr>
        <p:sp>
          <p:nvSpPr>
            <p:cNvPr id="548" name=""/>
            <p:cNvSpPr/>
            <p:nvPr/>
          </p:nvSpPr>
          <p:spPr>
            <a:xfrm>
              <a:off x="488880" y="4581360"/>
              <a:ext cx="4176720" cy="43164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10800000">
              <a:off x="488880" y="4581000"/>
              <a:ext cx="4176720" cy="43164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8880" y="4725720"/>
              <a:ext cx="4176720" cy="28728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5240160" y="4581000"/>
            <a:ext cx="4176720" cy="432000"/>
            <a:chOff x="5240160" y="4581000"/>
            <a:chExt cx="4176720" cy="432000"/>
          </a:xfrm>
        </p:grpSpPr>
        <p:sp>
          <p:nvSpPr>
            <p:cNvPr id="552" name=""/>
            <p:cNvSpPr/>
            <p:nvPr/>
          </p:nvSpPr>
          <p:spPr>
            <a:xfrm>
              <a:off x="5240160" y="4581360"/>
              <a:ext cx="4176720" cy="43164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10800000">
              <a:off x="5240160" y="4581000"/>
              <a:ext cx="4176720" cy="43164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240160" y="4725720"/>
              <a:ext cx="4176720" cy="28728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488880" y="3933360"/>
            <a:ext cx="4176720" cy="432000"/>
            <a:chOff x="488880" y="3933360"/>
            <a:chExt cx="4176720" cy="432000"/>
          </a:xfrm>
        </p:grpSpPr>
        <p:sp>
          <p:nvSpPr>
            <p:cNvPr id="556" name=""/>
            <p:cNvSpPr/>
            <p:nvPr/>
          </p:nvSpPr>
          <p:spPr>
            <a:xfrm>
              <a:off x="488880" y="3933720"/>
              <a:ext cx="4176720" cy="43164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10800000">
              <a:off x="488880" y="3933360"/>
              <a:ext cx="4176720" cy="43164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8880" y="4078080"/>
              <a:ext cx="4176720" cy="28728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5240160" y="3933360"/>
            <a:ext cx="4176720" cy="432000"/>
            <a:chOff x="5240160" y="3933360"/>
            <a:chExt cx="4176720" cy="432000"/>
          </a:xfrm>
        </p:grpSpPr>
        <p:sp>
          <p:nvSpPr>
            <p:cNvPr id="560" name=""/>
            <p:cNvSpPr/>
            <p:nvPr/>
          </p:nvSpPr>
          <p:spPr>
            <a:xfrm>
              <a:off x="5240160" y="3933720"/>
              <a:ext cx="4176720" cy="43164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10800000">
              <a:off x="5240160" y="3933360"/>
              <a:ext cx="4176720" cy="43164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240160" y="4078080"/>
              <a:ext cx="4176720" cy="28728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488880" y="1339920"/>
            <a:ext cx="4176720" cy="431280"/>
            <a:chOff x="488880" y="1339920"/>
            <a:chExt cx="4176720" cy="431280"/>
          </a:xfrm>
        </p:grpSpPr>
        <p:sp>
          <p:nvSpPr>
            <p:cNvPr id="564" name=""/>
            <p:cNvSpPr/>
            <p:nvPr/>
          </p:nvSpPr>
          <p:spPr>
            <a:xfrm>
              <a:off x="488880" y="1339920"/>
              <a:ext cx="4176720" cy="43128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0800000">
              <a:off x="488880" y="1339560"/>
              <a:ext cx="4176720" cy="43128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8880" y="1484280"/>
              <a:ext cx="4176720" cy="28692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5240160" y="1339920"/>
            <a:ext cx="4176720" cy="431280"/>
            <a:chOff x="5240160" y="1339920"/>
            <a:chExt cx="4176720" cy="431280"/>
          </a:xfrm>
        </p:grpSpPr>
        <p:sp>
          <p:nvSpPr>
            <p:cNvPr id="568" name=""/>
            <p:cNvSpPr/>
            <p:nvPr/>
          </p:nvSpPr>
          <p:spPr>
            <a:xfrm>
              <a:off x="5240160" y="1339920"/>
              <a:ext cx="4176720" cy="43128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10800000">
              <a:off x="5240160" y="1339560"/>
              <a:ext cx="4176720" cy="43128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240160" y="1484280"/>
              <a:ext cx="4176720" cy="28692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88880" y="692280"/>
            <a:ext cx="4176720" cy="431280"/>
            <a:chOff x="488880" y="692280"/>
            <a:chExt cx="4176720" cy="431280"/>
          </a:xfrm>
        </p:grpSpPr>
        <p:sp>
          <p:nvSpPr>
            <p:cNvPr id="572" name=""/>
            <p:cNvSpPr/>
            <p:nvPr/>
          </p:nvSpPr>
          <p:spPr>
            <a:xfrm>
              <a:off x="488880" y="692280"/>
              <a:ext cx="4176720" cy="43128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10800000">
              <a:off x="488880" y="691920"/>
              <a:ext cx="4176720" cy="43128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88880" y="836640"/>
              <a:ext cx="4176720" cy="28692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5240160" y="692280"/>
            <a:ext cx="4176720" cy="431280"/>
            <a:chOff x="5240160" y="692280"/>
            <a:chExt cx="4176720" cy="431280"/>
          </a:xfrm>
        </p:grpSpPr>
        <p:sp>
          <p:nvSpPr>
            <p:cNvPr id="576" name=""/>
            <p:cNvSpPr/>
            <p:nvPr/>
          </p:nvSpPr>
          <p:spPr>
            <a:xfrm>
              <a:off x="5240160" y="692280"/>
              <a:ext cx="4176720" cy="43128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10800000">
              <a:off x="5240160" y="691920"/>
              <a:ext cx="4176720" cy="43128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240160" y="836640"/>
              <a:ext cx="4176720" cy="28692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488880" y="2637000"/>
            <a:ext cx="4176720" cy="431280"/>
            <a:chOff x="488880" y="2637000"/>
            <a:chExt cx="4176720" cy="431280"/>
          </a:xfrm>
        </p:grpSpPr>
        <p:sp>
          <p:nvSpPr>
            <p:cNvPr id="580" name=""/>
            <p:cNvSpPr/>
            <p:nvPr/>
          </p:nvSpPr>
          <p:spPr>
            <a:xfrm>
              <a:off x="488880" y="2637000"/>
              <a:ext cx="4176720" cy="43128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0800000">
              <a:off x="488880" y="2636640"/>
              <a:ext cx="4176720" cy="43128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88880" y="2781360"/>
              <a:ext cx="4176720" cy="28692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240160" y="2637000"/>
            <a:ext cx="4176720" cy="431280"/>
            <a:chOff x="5240160" y="2637000"/>
            <a:chExt cx="4176720" cy="431280"/>
          </a:xfrm>
        </p:grpSpPr>
        <p:sp>
          <p:nvSpPr>
            <p:cNvPr id="584" name=""/>
            <p:cNvSpPr/>
            <p:nvPr/>
          </p:nvSpPr>
          <p:spPr>
            <a:xfrm>
              <a:off x="5240160" y="2637000"/>
              <a:ext cx="4176720" cy="43128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10800000">
              <a:off x="5240160" y="2636640"/>
              <a:ext cx="4176720" cy="43128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40160" y="2781360"/>
              <a:ext cx="4176720" cy="28692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488880" y="1988640"/>
            <a:ext cx="4176720" cy="432000"/>
            <a:chOff x="488880" y="1988640"/>
            <a:chExt cx="4176720" cy="432000"/>
          </a:xfrm>
        </p:grpSpPr>
        <p:sp>
          <p:nvSpPr>
            <p:cNvPr id="588" name=""/>
            <p:cNvSpPr/>
            <p:nvPr/>
          </p:nvSpPr>
          <p:spPr>
            <a:xfrm>
              <a:off x="488880" y="1989000"/>
              <a:ext cx="4176720" cy="43164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10800000">
              <a:off x="488880" y="1988280"/>
              <a:ext cx="4176720" cy="43164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88880" y="2133360"/>
              <a:ext cx="4176720" cy="28728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5240160" y="1988640"/>
            <a:ext cx="4176720" cy="432000"/>
            <a:chOff x="5240160" y="1988640"/>
            <a:chExt cx="4176720" cy="432000"/>
          </a:xfrm>
        </p:grpSpPr>
        <p:sp>
          <p:nvSpPr>
            <p:cNvPr id="592" name=""/>
            <p:cNvSpPr/>
            <p:nvPr/>
          </p:nvSpPr>
          <p:spPr>
            <a:xfrm>
              <a:off x="5240160" y="1989000"/>
              <a:ext cx="4176720" cy="43164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10800000">
              <a:off x="5240160" y="1988280"/>
              <a:ext cx="4176720" cy="43164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240160" y="2133360"/>
              <a:ext cx="4176720" cy="28728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488880" y="3284640"/>
            <a:ext cx="4176720" cy="431280"/>
            <a:chOff x="488880" y="3284640"/>
            <a:chExt cx="4176720" cy="431280"/>
          </a:xfrm>
        </p:grpSpPr>
        <p:sp>
          <p:nvSpPr>
            <p:cNvPr id="596" name=""/>
            <p:cNvSpPr/>
            <p:nvPr/>
          </p:nvSpPr>
          <p:spPr>
            <a:xfrm>
              <a:off x="488880" y="3284640"/>
              <a:ext cx="4176720" cy="43128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0800000">
              <a:off x="488880" y="3284640"/>
              <a:ext cx="4176720" cy="43128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88880" y="3429000"/>
              <a:ext cx="4176720" cy="28692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5240160" y="3284640"/>
            <a:ext cx="4176720" cy="431280"/>
            <a:chOff x="5240160" y="3284640"/>
            <a:chExt cx="4176720" cy="431280"/>
          </a:xfrm>
        </p:grpSpPr>
        <p:sp>
          <p:nvSpPr>
            <p:cNvPr id="600" name=""/>
            <p:cNvSpPr/>
            <p:nvPr/>
          </p:nvSpPr>
          <p:spPr>
            <a:xfrm>
              <a:off x="5240160" y="3284640"/>
              <a:ext cx="4176720" cy="43128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10800000">
              <a:off x="5240160" y="3284640"/>
              <a:ext cx="4176720" cy="43128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240160" y="3429000"/>
              <a:ext cx="4176720" cy="28692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4448160" y="1125360"/>
            <a:ext cx="1008000" cy="21780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c7e2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488880" y="691920"/>
            <a:ext cx="8928000" cy="433440"/>
            <a:chOff x="488880" y="691920"/>
            <a:chExt cx="8928000" cy="433440"/>
          </a:xfrm>
        </p:grpSpPr>
        <p:sp>
          <p:nvSpPr>
            <p:cNvPr id="605" name=""/>
            <p:cNvSpPr/>
            <p:nvPr/>
          </p:nvSpPr>
          <p:spPr>
            <a:xfrm>
              <a:off x="488880" y="692280"/>
              <a:ext cx="8928000" cy="43308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10800000">
              <a:off x="488880" y="691560"/>
              <a:ext cx="8928000" cy="43308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88880" y="837000"/>
              <a:ext cx="8928000" cy="28836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4448160" y="1774800"/>
            <a:ext cx="1008000" cy="21744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c7e2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488880" y="1341360"/>
            <a:ext cx="8928000" cy="433440"/>
            <a:chOff x="488880" y="1341360"/>
            <a:chExt cx="8928000" cy="433440"/>
          </a:xfrm>
        </p:grpSpPr>
        <p:sp>
          <p:nvSpPr>
            <p:cNvPr id="610" name=""/>
            <p:cNvSpPr/>
            <p:nvPr/>
          </p:nvSpPr>
          <p:spPr>
            <a:xfrm>
              <a:off x="488880" y="1341360"/>
              <a:ext cx="8928000" cy="43344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10800000">
              <a:off x="488880" y="1341000"/>
              <a:ext cx="8928000" cy="43344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8880" y="1486080"/>
              <a:ext cx="8928000" cy="28836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4448160" y="2422440"/>
            <a:ext cx="1008000" cy="21744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c7e2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488880" y="1989000"/>
            <a:ext cx="8928000" cy="433440"/>
            <a:chOff x="488880" y="1989000"/>
            <a:chExt cx="8928000" cy="433440"/>
          </a:xfrm>
        </p:grpSpPr>
        <p:sp>
          <p:nvSpPr>
            <p:cNvPr id="615" name=""/>
            <p:cNvSpPr/>
            <p:nvPr/>
          </p:nvSpPr>
          <p:spPr>
            <a:xfrm>
              <a:off x="488880" y="1989000"/>
              <a:ext cx="8928000" cy="43344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10800000">
              <a:off x="488880" y="1988640"/>
              <a:ext cx="8928000" cy="43344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88880" y="2133720"/>
              <a:ext cx="8928000" cy="28836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4448160" y="3071880"/>
            <a:ext cx="1008000" cy="21744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c7e2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488880" y="2638440"/>
            <a:ext cx="8928000" cy="433440"/>
            <a:chOff x="488880" y="2638440"/>
            <a:chExt cx="8928000" cy="433440"/>
          </a:xfrm>
        </p:grpSpPr>
        <p:sp>
          <p:nvSpPr>
            <p:cNvPr id="620" name=""/>
            <p:cNvSpPr/>
            <p:nvPr/>
          </p:nvSpPr>
          <p:spPr>
            <a:xfrm>
              <a:off x="488880" y="2638440"/>
              <a:ext cx="8928000" cy="43344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0800000">
              <a:off x="488880" y="2638080"/>
              <a:ext cx="8928000" cy="43344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88880" y="2783160"/>
              <a:ext cx="8928000" cy="28836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4448160" y="3718080"/>
            <a:ext cx="1008000" cy="21744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c7e2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88880" y="3284640"/>
            <a:ext cx="8928000" cy="433440"/>
            <a:chOff x="488880" y="3284640"/>
            <a:chExt cx="8928000" cy="433440"/>
          </a:xfrm>
        </p:grpSpPr>
        <p:sp>
          <p:nvSpPr>
            <p:cNvPr id="625" name=""/>
            <p:cNvSpPr/>
            <p:nvPr/>
          </p:nvSpPr>
          <p:spPr>
            <a:xfrm>
              <a:off x="488880" y="3284640"/>
              <a:ext cx="8928000" cy="43344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0800000">
              <a:off x="488880" y="3284280"/>
              <a:ext cx="8928000" cy="43344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88880" y="3429360"/>
              <a:ext cx="8928000" cy="28836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4448160" y="4367160"/>
            <a:ext cx="1008000" cy="21744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c7e2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488880" y="3933720"/>
            <a:ext cx="8928000" cy="433440"/>
            <a:chOff x="488880" y="3933720"/>
            <a:chExt cx="8928000" cy="433440"/>
          </a:xfrm>
        </p:grpSpPr>
        <p:sp>
          <p:nvSpPr>
            <p:cNvPr id="630" name=""/>
            <p:cNvSpPr/>
            <p:nvPr/>
          </p:nvSpPr>
          <p:spPr>
            <a:xfrm>
              <a:off x="488880" y="3933720"/>
              <a:ext cx="8928000" cy="43344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10800000">
              <a:off x="488880" y="3933360"/>
              <a:ext cx="8928000" cy="43344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88880" y="4078440"/>
              <a:ext cx="8928000" cy="28836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448160" y="5014800"/>
            <a:ext cx="1008000" cy="21744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c7e2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488880" y="4581360"/>
            <a:ext cx="8928000" cy="433440"/>
            <a:chOff x="488880" y="4581360"/>
            <a:chExt cx="8928000" cy="433440"/>
          </a:xfrm>
        </p:grpSpPr>
        <p:sp>
          <p:nvSpPr>
            <p:cNvPr id="635" name=""/>
            <p:cNvSpPr/>
            <p:nvPr/>
          </p:nvSpPr>
          <p:spPr>
            <a:xfrm>
              <a:off x="488880" y="4581360"/>
              <a:ext cx="8928000" cy="43344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10800000">
              <a:off x="488880" y="4581000"/>
              <a:ext cx="8928000" cy="43344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88880" y="4726080"/>
              <a:ext cx="8928000" cy="28836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4448160" y="5664240"/>
            <a:ext cx="1008000" cy="21744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c7e2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488880" y="5230800"/>
            <a:ext cx="8928000" cy="433440"/>
            <a:chOff x="488880" y="5230800"/>
            <a:chExt cx="8928000" cy="433440"/>
          </a:xfrm>
        </p:grpSpPr>
        <p:sp>
          <p:nvSpPr>
            <p:cNvPr id="640" name=""/>
            <p:cNvSpPr/>
            <p:nvPr/>
          </p:nvSpPr>
          <p:spPr>
            <a:xfrm>
              <a:off x="488880" y="5230800"/>
              <a:ext cx="8928000" cy="43344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10800000">
              <a:off x="488880" y="5230440"/>
              <a:ext cx="8928000" cy="43344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88880" y="5375520"/>
              <a:ext cx="8928000" cy="28836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488880" y="5877000"/>
            <a:ext cx="8928000" cy="433440"/>
            <a:chOff x="488880" y="5877000"/>
            <a:chExt cx="8928000" cy="433440"/>
          </a:xfrm>
        </p:grpSpPr>
        <p:sp>
          <p:nvSpPr>
            <p:cNvPr id="644" name=""/>
            <p:cNvSpPr/>
            <p:nvPr/>
          </p:nvSpPr>
          <p:spPr>
            <a:xfrm>
              <a:off x="488880" y="5877000"/>
              <a:ext cx="8928000" cy="43344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10800000">
              <a:off x="488880" y="5876640"/>
              <a:ext cx="8928000" cy="43344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88880" y="6021720"/>
              <a:ext cx="8928000" cy="28836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2073240" y="5661000"/>
            <a:ext cx="100800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abc7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073240" y="5084640"/>
            <a:ext cx="100800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abc7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073240" y="4508640"/>
            <a:ext cx="1008000" cy="20772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abc7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073240" y="3932280"/>
            <a:ext cx="100800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abc7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073240" y="3357720"/>
            <a:ext cx="1008000" cy="20772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abc7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073240" y="2781360"/>
            <a:ext cx="100800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abc7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073240" y="2205000"/>
            <a:ext cx="100800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abc7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073240" y="1628640"/>
            <a:ext cx="100800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abc7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073240" y="1052640"/>
            <a:ext cx="1008000" cy="20772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abc7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488880" y="5876640"/>
            <a:ext cx="4176720" cy="360720"/>
            <a:chOff x="488880" y="5876640"/>
            <a:chExt cx="4176720" cy="360720"/>
          </a:xfrm>
        </p:grpSpPr>
        <p:sp>
          <p:nvSpPr>
            <p:cNvPr id="657" name=""/>
            <p:cNvSpPr/>
            <p:nvPr/>
          </p:nvSpPr>
          <p:spPr>
            <a:xfrm>
              <a:off x="488880" y="5877000"/>
              <a:ext cx="4176720" cy="36036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10800000">
              <a:off x="488880" y="5876640"/>
              <a:ext cx="4176720" cy="36036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88880" y="5997600"/>
              <a:ext cx="4176720" cy="23976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488880" y="5300280"/>
            <a:ext cx="4176720" cy="360720"/>
            <a:chOff x="488880" y="5300280"/>
            <a:chExt cx="4176720" cy="360720"/>
          </a:xfrm>
        </p:grpSpPr>
        <p:sp>
          <p:nvSpPr>
            <p:cNvPr id="661" name=""/>
            <p:cNvSpPr/>
            <p:nvPr/>
          </p:nvSpPr>
          <p:spPr>
            <a:xfrm>
              <a:off x="488880" y="5300640"/>
              <a:ext cx="4176720" cy="36036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10800000">
              <a:off x="488880" y="5300280"/>
              <a:ext cx="4176720" cy="36036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88880" y="5421240"/>
              <a:ext cx="4176720" cy="23976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488880" y="4723920"/>
            <a:ext cx="4176720" cy="360720"/>
            <a:chOff x="488880" y="4723920"/>
            <a:chExt cx="4176720" cy="360720"/>
          </a:xfrm>
        </p:grpSpPr>
        <p:sp>
          <p:nvSpPr>
            <p:cNvPr id="665" name=""/>
            <p:cNvSpPr/>
            <p:nvPr/>
          </p:nvSpPr>
          <p:spPr>
            <a:xfrm>
              <a:off x="488880" y="4724280"/>
              <a:ext cx="4176720" cy="36036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10800000">
              <a:off x="488880" y="4723920"/>
              <a:ext cx="4176720" cy="36036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88880" y="4844880"/>
              <a:ext cx="4176720" cy="23976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488880" y="4149360"/>
            <a:ext cx="4176720" cy="360720"/>
            <a:chOff x="488880" y="4149360"/>
            <a:chExt cx="4176720" cy="360720"/>
          </a:xfrm>
        </p:grpSpPr>
        <p:sp>
          <p:nvSpPr>
            <p:cNvPr id="669" name=""/>
            <p:cNvSpPr/>
            <p:nvPr/>
          </p:nvSpPr>
          <p:spPr>
            <a:xfrm>
              <a:off x="488880" y="4149720"/>
              <a:ext cx="4176720" cy="36036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10800000">
              <a:off x="488880" y="4149360"/>
              <a:ext cx="4176720" cy="36036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88880" y="4270320"/>
              <a:ext cx="4176720" cy="23976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488880" y="3573000"/>
            <a:ext cx="4176720" cy="360720"/>
            <a:chOff x="488880" y="3573000"/>
            <a:chExt cx="4176720" cy="360720"/>
          </a:xfrm>
        </p:grpSpPr>
        <p:sp>
          <p:nvSpPr>
            <p:cNvPr id="673" name=""/>
            <p:cNvSpPr/>
            <p:nvPr/>
          </p:nvSpPr>
          <p:spPr>
            <a:xfrm>
              <a:off x="488880" y="3573360"/>
              <a:ext cx="4176720" cy="36036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10800000">
              <a:off x="488880" y="3573000"/>
              <a:ext cx="4176720" cy="36036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88880" y="3693960"/>
              <a:ext cx="4176720" cy="23976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488880" y="2997000"/>
            <a:ext cx="4176720" cy="360720"/>
            <a:chOff x="488880" y="2997000"/>
            <a:chExt cx="4176720" cy="360720"/>
          </a:xfrm>
        </p:grpSpPr>
        <p:sp>
          <p:nvSpPr>
            <p:cNvPr id="677" name=""/>
            <p:cNvSpPr/>
            <p:nvPr/>
          </p:nvSpPr>
          <p:spPr>
            <a:xfrm>
              <a:off x="488880" y="2997360"/>
              <a:ext cx="4176720" cy="36036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10800000">
              <a:off x="488880" y="2997000"/>
              <a:ext cx="4176720" cy="36036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88880" y="3117960"/>
              <a:ext cx="4176720" cy="23976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488880" y="2420640"/>
            <a:ext cx="4176720" cy="360720"/>
            <a:chOff x="488880" y="2420640"/>
            <a:chExt cx="4176720" cy="360720"/>
          </a:xfrm>
        </p:grpSpPr>
        <p:sp>
          <p:nvSpPr>
            <p:cNvPr id="681" name=""/>
            <p:cNvSpPr/>
            <p:nvPr/>
          </p:nvSpPr>
          <p:spPr>
            <a:xfrm>
              <a:off x="488880" y="2421000"/>
              <a:ext cx="4176720" cy="36036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10800000">
              <a:off x="488880" y="2420280"/>
              <a:ext cx="4176720" cy="36036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88880" y="2541600"/>
              <a:ext cx="4176720" cy="23976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488880" y="1844280"/>
            <a:ext cx="4176720" cy="360720"/>
            <a:chOff x="488880" y="1844280"/>
            <a:chExt cx="4176720" cy="360720"/>
          </a:xfrm>
        </p:grpSpPr>
        <p:sp>
          <p:nvSpPr>
            <p:cNvPr id="685" name=""/>
            <p:cNvSpPr/>
            <p:nvPr/>
          </p:nvSpPr>
          <p:spPr>
            <a:xfrm>
              <a:off x="488880" y="1844640"/>
              <a:ext cx="4176720" cy="36036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10800000">
              <a:off x="488880" y="1843920"/>
              <a:ext cx="4176720" cy="36036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88880" y="1965240"/>
              <a:ext cx="4176720" cy="23976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488880" y="1267920"/>
            <a:ext cx="4176720" cy="360720"/>
            <a:chOff x="488880" y="1267920"/>
            <a:chExt cx="4176720" cy="360720"/>
          </a:xfrm>
        </p:grpSpPr>
        <p:sp>
          <p:nvSpPr>
            <p:cNvPr id="689" name=""/>
            <p:cNvSpPr/>
            <p:nvPr/>
          </p:nvSpPr>
          <p:spPr>
            <a:xfrm>
              <a:off x="488880" y="1268280"/>
              <a:ext cx="4176720" cy="36036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10800000">
              <a:off x="488880" y="1267560"/>
              <a:ext cx="4176720" cy="36036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88880" y="1388880"/>
              <a:ext cx="4176720" cy="23976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488880" y="691920"/>
            <a:ext cx="4176720" cy="360720"/>
            <a:chOff x="488880" y="691920"/>
            <a:chExt cx="4176720" cy="360720"/>
          </a:xfrm>
        </p:grpSpPr>
        <p:sp>
          <p:nvSpPr>
            <p:cNvPr id="693" name=""/>
            <p:cNvSpPr/>
            <p:nvPr/>
          </p:nvSpPr>
          <p:spPr>
            <a:xfrm>
              <a:off x="488880" y="692280"/>
              <a:ext cx="4176720" cy="36036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10800000">
              <a:off x="488880" y="691560"/>
              <a:ext cx="4176720" cy="36036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88880" y="812880"/>
              <a:ext cx="4176720" cy="23976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6824520" y="5661000"/>
            <a:ext cx="100836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24520" y="5084640"/>
            <a:ext cx="100836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824520" y="4508640"/>
            <a:ext cx="1008360" cy="20772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824520" y="3932280"/>
            <a:ext cx="100836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824520" y="3357720"/>
            <a:ext cx="1008360" cy="20772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824520" y="2781360"/>
            <a:ext cx="100836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824520" y="2205000"/>
            <a:ext cx="100836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824520" y="1628640"/>
            <a:ext cx="100836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824520" y="1052640"/>
            <a:ext cx="1008360" cy="20772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5240160" y="5876640"/>
            <a:ext cx="4176720" cy="360720"/>
            <a:chOff x="5240160" y="5876640"/>
            <a:chExt cx="4176720" cy="360720"/>
          </a:xfrm>
        </p:grpSpPr>
        <p:sp>
          <p:nvSpPr>
            <p:cNvPr id="706" name=""/>
            <p:cNvSpPr/>
            <p:nvPr/>
          </p:nvSpPr>
          <p:spPr>
            <a:xfrm>
              <a:off x="5240160" y="5877000"/>
              <a:ext cx="4176720" cy="36036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10800000">
              <a:off x="5240160" y="5876640"/>
              <a:ext cx="4176720" cy="36036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240160" y="5997600"/>
              <a:ext cx="4176720" cy="23976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5240160" y="5300280"/>
            <a:ext cx="4176720" cy="360720"/>
            <a:chOff x="5240160" y="5300280"/>
            <a:chExt cx="4176720" cy="360720"/>
          </a:xfrm>
        </p:grpSpPr>
        <p:sp>
          <p:nvSpPr>
            <p:cNvPr id="710" name=""/>
            <p:cNvSpPr/>
            <p:nvPr/>
          </p:nvSpPr>
          <p:spPr>
            <a:xfrm>
              <a:off x="5240160" y="5300640"/>
              <a:ext cx="4176720" cy="36036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10800000">
              <a:off x="5240160" y="5300280"/>
              <a:ext cx="4176720" cy="36036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240160" y="5421240"/>
              <a:ext cx="4176720" cy="23976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5240160" y="4723920"/>
            <a:ext cx="4176720" cy="360720"/>
            <a:chOff x="5240160" y="4723920"/>
            <a:chExt cx="4176720" cy="360720"/>
          </a:xfrm>
        </p:grpSpPr>
        <p:sp>
          <p:nvSpPr>
            <p:cNvPr id="714" name=""/>
            <p:cNvSpPr/>
            <p:nvPr/>
          </p:nvSpPr>
          <p:spPr>
            <a:xfrm>
              <a:off x="5240160" y="4724280"/>
              <a:ext cx="4176720" cy="36036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10800000">
              <a:off x="5240160" y="4723920"/>
              <a:ext cx="4176720" cy="36036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240160" y="4844880"/>
              <a:ext cx="4176720" cy="23976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5240160" y="4147920"/>
            <a:ext cx="4176720" cy="360720"/>
            <a:chOff x="5240160" y="4147920"/>
            <a:chExt cx="4176720" cy="360720"/>
          </a:xfrm>
        </p:grpSpPr>
        <p:sp>
          <p:nvSpPr>
            <p:cNvPr id="718" name=""/>
            <p:cNvSpPr/>
            <p:nvPr/>
          </p:nvSpPr>
          <p:spPr>
            <a:xfrm>
              <a:off x="5240160" y="4148280"/>
              <a:ext cx="4176720" cy="36036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10800000">
              <a:off x="5240160" y="4147920"/>
              <a:ext cx="4176720" cy="36036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240160" y="4268880"/>
              <a:ext cx="4176720" cy="23976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5240160" y="3573000"/>
            <a:ext cx="4176720" cy="360720"/>
            <a:chOff x="5240160" y="3573000"/>
            <a:chExt cx="4176720" cy="360720"/>
          </a:xfrm>
        </p:grpSpPr>
        <p:sp>
          <p:nvSpPr>
            <p:cNvPr id="722" name=""/>
            <p:cNvSpPr/>
            <p:nvPr/>
          </p:nvSpPr>
          <p:spPr>
            <a:xfrm>
              <a:off x="5240160" y="3573360"/>
              <a:ext cx="4176720" cy="36036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10800000">
              <a:off x="5240160" y="3573000"/>
              <a:ext cx="4176720" cy="36036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240160" y="3693960"/>
              <a:ext cx="4176720" cy="23976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5240160" y="2997000"/>
            <a:ext cx="4176720" cy="360720"/>
            <a:chOff x="5240160" y="2997000"/>
            <a:chExt cx="4176720" cy="360720"/>
          </a:xfrm>
        </p:grpSpPr>
        <p:sp>
          <p:nvSpPr>
            <p:cNvPr id="726" name=""/>
            <p:cNvSpPr/>
            <p:nvPr/>
          </p:nvSpPr>
          <p:spPr>
            <a:xfrm>
              <a:off x="5240160" y="2997360"/>
              <a:ext cx="4176720" cy="36036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10800000">
              <a:off x="5240160" y="2997000"/>
              <a:ext cx="4176720" cy="36036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240160" y="3117960"/>
              <a:ext cx="4176720" cy="23976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5240160" y="2420640"/>
            <a:ext cx="4176720" cy="360720"/>
            <a:chOff x="5240160" y="2420640"/>
            <a:chExt cx="4176720" cy="360720"/>
          </a:xfrm>
        </p:grpSpPr>
        <p:sp>
          <p:nvSpPr>
            <p:cNvPr id="730" name=""/>
            <p:cNvSpPr/>
            <p:nvPr/>
          </p:nvSpPr>
          <p:spPr>
            <a:xfrm>
              <a:off x="5240160" y="2421000"/>
              <a:ext cx="4176720" cy="36036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10800000">
              <a:off x="5240160" y="2420280"/>
              <a:ext cx="4176720" cy="36036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240160" y="2541600"/>
              <a:ext cx="4176720" cy="23976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5240160" y="1844280"/>
            <a:ext cx="4176720" cy="360720"/>
            <a:chOff x="5240160" y="1844280"/>
            <a:chExt cx="4176720" cy="360720"/>
          </a:xfrm>
        </p:grpSpPr>
        <p:sp>
          <p:nvSpPr>
            <p:cNvPr id="734" name=""/>
            <p:cNvSpPr/>
            <p:nvPr/>
          </p:nvSpPr>
          <p:spPr>
            <a:xfrm>
              <a:off x="5240160" y="1844640"/>
              <a:ext cx="4176720" cy="36036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10800000">
              <a:off x="5240160" y="1843920"/>
              <a:ext cx="4176720" cy="36036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240160" y="1965240"/>
              <a:ext cx="4176720" cy="23976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5240160" y="1267920"/>
            <a:ext cx="4176720" cy="360720"/>
            <a:chOff x="5240160" y="1267920"/>
            <a:chExt cx="4176720" cy="360720"/>
          </a:xfrm>
        </p:grpSpPr>
        <p:sp>
          <p:nvSpPr>
            <p:cNvPr id="738" name=""/>
            <p:cNvSpPr/>
            <p:nvPr/>
          </p:nvSpPr>
          <p:spPr>
            <a:xfrm>
              <a:off x="5240160" y="1268280"/>
              <a:ext cx="4176720" cy="36036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10800000">
              <a:off x="5240160" y="1267560"/>
              <a:ext cx="4176720" cy="36036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240160" y="1388880"/>
              <a:ext cx="4176720" cy="23976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5240160" y="691920"/>
            <a:ext cx="4176720" cy="360720"/>
            <a:chOff x="5240160" y="691920"/>
            <a:chExt cx="4176720" cy="360720"/>
          </a:xfrm>
        </p:grpSpPr>
        <p:sp>
          <p:nvSpPr>
            <p:cNvPr id="742" name=""/>
            <p:cNvSpPr/>
            <p:nvPr/>
          </p:nvSpPr>
          <p:spPr>
            <a:xfrm>
              <a:off x="5240160" y="692280"/>
              <a:ext cx="4176720" cy="36036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10800000">
              <a:off x="5240160" y="691560"/>
              <a:ext cx="4176720" cy="36036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240160" y="812880"/>
              <a:ext cx="4176720" cy="23976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4448160" y="1052640"/>
            <a:ext cx="1008000" cy="21744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c7e2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488880" y="691920"/>
            <a:ext cx="8928000" cy="360720"/>
            <a:chOff x="488880" y="691920"/>
            <a:chExt cx="8928000" cy="360720"/>
          </a:xfrm>
        </p:grpSpPr>
        <p:sp>
          <p:nvSpPr>
            <p:cNvPr id="747" name=""/>
            <p:cNvSpPr/>
            <p:nvPr/>
          </p:nvSpPr>
          <p:spPr>
            <a:xfrm>
              <a:off x="488880" y="692280"/>
              <a:ext cx="8928000" cy="36036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10800000">
              <a:off x="488880" y="691560"/>
              <a:ext cx="8928000" cy="36036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88880" y="812880"/>
              <a:ext cx="8928000" cy="23976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4448160" y="1628640"/>
            <a:ext cx="1008000" cy="21780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c7e2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488880" y="1267920"/>
            <a:ext cx="8928000" cy="360720"/>
            <a:chOff x="488880" y="1267920"/>
            <a:chExt cx="8928000" cy="360720"/>
          </a:xfrm>
        </p:grpSpPr>
        <p:sp>
          <p:nvSpPr>
            <p:cNvPr id="752" name=""/>
            <p:cNvSpPr/>
            <p:nvPr/>
          </p:nvSpPr>
          <p:spPr>
            <a:xfrm>
              <a:off x="488880" y="1268280"/>
              <a:ext cx="8928000" cy="36036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rot="10800000">
              <a:off x="488880" y="1267560"/>
              <a:ext cx="8928000" cy="36036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88880" y="1388880"/>
              <a:ext cx="8928000" cy="23976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4448160" y="2205000"/>
            <a:ext cx="1008000" cy="21744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c7e2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488880" y="1844280"/>
            <a:ext cx="8928000" cy="360720"/>
            <a:chOff x="488880" y="1844280"/>
            <a:chExt cx="8928000" cy="360720"/>
          </a:xfrm>
        </p:grpSpPr>
        <p:sp>
          <p:nvSpPr>
            <p:cNvPr id="757" name=""/>
            <p:cNvSpPr/>
            <p:nvPr/>
          </p:nvSpPr>
          <p:spPr>
            <a:xfrm>
              <a:off x="488880" y="1844640"/>
              <a:ext cx="8928000" cy="36036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rot="10800000">
              <a:off x="488880" y="1843920"/>
              <a:ext cx="8928000" cy="36036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8880" y="1965240"/>
              <a:ext cx="8928000" cy="23976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4448160" y="2781360"/>
            <a:ext cx="1008000" cy="21744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c7e2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488880" y="2420640"/>
            <a:ext cx="8928000" cy="360720"/>
            <a:chOff x="488880" y="2420640"/>
            <a:chExt cx="8928000" cy="360720"/>
          </a:xfrm>
        </p:grpSpPr>
        <p:sp>
          <p:nvSpPr>
            <p:cNvPr id="762" name=""/>
            <p:cNvSpPr/>
            <p:nvPr/>
          </p:nvSpPr>
          <p:spPr>
            <a:xfrm>
              <a:off x="488880" y="2421000"/>
              <a:ext cx="8928000" cy="36036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rot="10800000">
              <a:off x="488880" y="2420280"/>
              <a:ext cx="8928000" cy="36036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88880" y="2541600"/>
              <a:ext cx="8928000" cy="23976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"/>
          <p:cNvSpPr/>
          <p:nvPr/>
        </p:nvSpPr>
        <p:spPr>
          <a:xfrm>
            <a:off x="4448160" y="3357720"/>
            <a:ext cx="1008000" cy="21744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c7e2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488880" y="2997000"/>
            <a:ext cx="8928000" cy="360720"/>
            <a:chOff x="488880" y="2997000"/>
            <a:chExt cx="8928000" cy="360720"/>
          </a:xfrm>
        </p:grpSpPr>
        <p:sp>
          <p:nvSpPr>
            <p:cNvPr id="767" name=""/>
            <p:cNvSpPr/>
            <p:nvPr/>
          </p:nvSpPr>
          <p:spPr>
            <a:xfrm>
              <a:off x="488880" y="2997360"/>
              <a:ext cx="8928000" cy="36036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rot="10800000">
              <a:off x="488880" y="2996640"/>
              <a:ext cx="8928000" cy="36036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88880" y="3117960"/>
              <a:ext cx="8928000" cy="23976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4448160" y="3933720"/>
            <a:ext cx="1008000" cy="21744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c7e2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488880" y="3573000"/>
            <a:ext cx="8928000" cy="360720"/>
            <a:chOff x="488880" y="3573000"/>
            <a:chExt cx="8928000" cy="360720"/>
          </a:xfrm>
        </p:grpSpPr>
        <p:sp>
          <p:nvSpPr>
            <p:cNvPr id="772" name=""/>
            <p:cNvSpPr/>
            <p:nvPr/>
          </p:nvSpPr>
          <p:spPr>
            <a:xfrm>
              <a:off x="488880" y="3573360"/>
              <a:ext cx="8928000" cy="36036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10800000">
              <a:off x="488880" y="3572640"/>
              <a:ext cx="8928000" cy="36036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88880" y="3693960"/>
              <a:ext cx="8928000" cy="23976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4448160" y="4510080"/>
            <a:ext cx="1008000" cy="21744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c7e2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488880" y="4149360"/>
            <a:ext cx="8928000" cy="360720"/>
            <a:chOff x="488880" y="4149360"/>
            <a:chExt cx="8928000" cy="360720"/>
          </a:xfrm>
        </p:grpSpPr>
        <p:sp>
          <p:nvSpPr>
            <p:cNvPr id="777" name=""/>
            <p:cNvSpPr/>
            <p:nvPr/>
          </p:nvSpPr>
          <p:spPr>
            <a:xfrm>
              <a:off x="488880" y="4149720"/>
              <a:ext cx="8928000" cy="36036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rot="10800000">
              <a:off x="488880" y="4149000"/>
              <a:ext cx="8928000" cy="36036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88880" y="4270320"/>
              <a:ext cx="8928000" cy="23976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"/>
          <p:cNvSpPr/>
          <p:nvPr/>
        </p:nvSpPr>
        <p:spPr>
          <a:xfrm>
            <a:off x="4448160" y="5086440"/>
            <a:ext cx="1008000" cy="21744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c7e2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488880" y="4725720"/>
            <a:ext cx="8928000" cy="360720"/>
            <a:chOff x="488880" y="4725720"/>
            <a:chExt cx="8928000" cy="360720"/>
          </a:xfrm>
        </p:grpSpPr>
        <p:sp>
          <p:nvSpPr>
            <p:cNvPr id="782" name=""/>
            <p:cNvSpPr/>
            <p:nvPr/>
          </p:nvSpPr>
          <p:spPr>
            <a:xfrm>
              <a:off x="488880" y="4726080"/>
              <a:ext cx="8928000" cy="36036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rot="10800000">
              <a:off x="488880" y="4725360"/>
              <a:ext cx="8928000" cy="36036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88880" y="4846680"/>
              <a:ext cx="8928000" cy="23976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4448160" y="5661000"/>
            <a:ext cx="1008000" cy="21744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c7e2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488880" y="5300280"/>
            <a:ext cx="8928000" cy="360720"/>
            <a:chOff x="488880" y="5300280"/>
            <a:chExt cx="8928000" cy="360720"/>
          </a:xfrm>
        </p:grpSpPr>
        <p:sp>
          <p:nvSpPr>
            <p:cNvPr id="787" name=""/>
            <p:cNvSpPr/>
            <p:nvPr/>
          </p:nvSpPr>
          <p:spPr>
            <a:xfrm>
              <a:off x="488880" y="5300640"/>
              <a:ext cx="8928000" cy="36036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10800000">
              <a:off x="488880" y="5299920"/>
              <a:ext cx="8928000" cy="36036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88880" y="5421240"/>
              <a:ext cx="8928000" cy="23976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488880" y="5876640"/>
            <a:ext cx="8928000" cy="360720"/>
            <a:chOff x="488880" y="5876640"/>
            <a:chExt cx="8928000" cy="360720"/>
          </a:xfrm>
        </p:grpSpPr>
        <p:sp>
          <p:nvSpPr>
            <p:cNvPr id="791" name=""/>
            <p:cNvSpPr/>
            <p:nvPr/>
          </p:nvSpPr>
          <p:spPr>
            <a:xfrm>
              <a:off x="488880" y="5877000"/>
              <a:ext cx="8928000" cy="36036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0800000">
              <a:off x="488880" y="5876280"/>
              <a:ext cx="8928000" cy="36036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88880" y="5997600"/>
              <a:ext cx="8928000" cy="23976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448160" y="2276640"/>
            <a:ext cx="1008000" cy="28872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c7e2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88880" y="691920"/>
            <a:ext cx="8928000" cy="1584720"/>
            <a:chOff x="488880" y="691920"/>
            <a:chExt cx="8928000" cy="1584720"/>
          </a:xfrm>
        </p:grpSpPr>
        <p:sp>
          <p:nvSpPr>
            <p:cNvPr id="68" name=""/>
            <p:cNvSpPr/>
            <p:nvPr/>
          </p:nvSpPr>
          <p:spPr>
            <a:xfrm>
              <a:off x="488880" y="692280"/>
              <a:ext cx="8928000" cy="158436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0800000">
              <a:off x="488880" y="691560"/>
              <a:ext cx="8928000" cy="158436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8880" y="1222200"/>
              <a:ext cx="8928000" cy="105444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4448160" y="4149720"/>
            <a:ext cx="1008000" cy="289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c7e2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88880" y="2565000"/>
            <a:ext cx="8928000" cy="1584720"/>
            <a:chOff x="488880" y="2565000"/>
            <a:chExt cx="8928000" cy="1584720"/>
          </a:xfrm>
        </p:grpSpPr>
        <p:sp>
          <p:nvSpPr>
            <p:cNvPr id="73" name=""/>
            <p:cNvSpPr/>
            <p:nvPr/>
          </p:nvSpPr>
          <p:spPr>
            <a:xfrm>
              <a:off x="488880" y="2565360"/>
              <a:ext cx="8928000" cy="158436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0800000">
              <a:off x="488880" y="2564640"/>
              <a:ext cx="8928000" cy="158436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8880" y="3095280"/>
              <a:ext cx="8928000" cy="105444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88880" y="4436640"/>
            <a:ext cx="8928000" cy="1584720"/>
            <a:chOff x="488880" y="4436640"/>
            <a:chExt cx="8928000" cy="1584720"/>
          </a:xfrm>
        </p:grpSpPr>
        <p:sp>
          <p:nvSpPr>
            <p:cNvPr id="77" name=""/>
            <p:cNvSpPr/>
            <p:nvPr/>
          </p:nvSpPr>
          <p:spPr>
            <a:xfrm>
              <a:off x="488880" y="4437000"/>
              <a:ext cx="8928000" cy="158436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0800000">
              <a:off x="488880" y="4436280"/>
              <a:ext cx="8928000" cy="158436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8880" y="4966920"/>
              <a:ext cx="8928000" cy="105444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073240" y="1916280"/>
            <a:ext cx="1008000" cy="20772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abc7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24520" y="1916280"/>
            <a:ext cx="1008360" cy="20772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88880" y="691920"/>
            <a:ext cx="4176720" cy="1223280"/>
            <a:chOff x="488880" y="691920"/>
            <a:chExt cx="4176720" cy="1223280"/>
          </a:xfrm>
        </p:grpSpPr>
        <p:sp>
          <p:nvSpPr>
            <p:cNvPr id="83" name=""/>
            <p:cNvSpPr/>
            <p:nvPr/>
          </p:nvSpPr>
          <p:spPr>
            <a:xfrm>
              <a:off x="488880" y="692280"/>
              <a:ext cx="4176720" cy="12229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0800000">
              <a:off x="488880" y="691560"/>
              <a:ext cx="4176720" cy="122292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80" y="1101600"/>
              <a:ext cx="4176720" cy="81360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5240160" y="691920"/>
            <a:ext cx="4176720" cy="1223280"/>
            <a:chOff x="5240160" y="691920"/>
            <a:chExt cx="4176720" cy="1223280"/>
          </a:xfrm>
        </p:grpSpPr>
        <p:sp>
          <p:nvSpPr>
            <p:cNvPr id="87" name=""/>
            <p:cNvSpPr/>
            <p:nvPr/>
          </p:nvSpPr>
          <p:spPr>
            <a:xfrm>
              <a:off x="5240160" y="692280"/>
              <a:ext cx="4176720" cy="122292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0800000">
              <a:off x="5240160" y="691560"/>
              <a:ext cx="4176720" cy="12229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40160" y="1101600"/>
              <a:ext cx="4176720" cy="81360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073240" y="3357720"/>
            <a:ext cx="1008000" cy="20772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abc7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24520" y="3357720"/>
            <a:ext cx="1008360" cy="20772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88880" y="2133360"/>
            <a:ext cx="4176720" cy="1223280"/>
            <a:chOff x="488880" y="2133360"/>
            <a:chExt cx="4176720" cy="1223280"/>
          </a:xfrm>
        </p:grpSpPr>
        <p:sp>
          <p:nvSpPr>
            <p:cNvPr id="93" name=""/>
            <p:cNvSpPr/>
            <p:nvPr/>
          </p:nvSpPr>
          <p:spPr>
            <a:xfrm>
              <a:off x="488880" y="2133720"/>
              <a:ext cx="4176720" cy="12229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0800000">
              <a:off x="488880" y="2133000"/>
              <a:ext cx="4176720" cy="122292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8880" y="2543040"/>
              <a:ext cx="4176720" cy="81360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240160" y="2133360"/>
            <a:ext cx="4176720" cy="1223280"/>
            <a:chOff x="5240160" y="2133360"/>
            <a:chExt cx="4176720" cy="1223280"/>
          </a:xfrm>
        </p:grpSpPr>
        <p:sp>
          <p:nvSpPr>
            <p:cNvPr id="97" name=""/>
            <p:cNvSpPr/>
            <p:nvPr/>
          </p:nvSpPr>
          <p:spPr>
            <a:xfrm>
              <a:off x="5240160" y="2133720"/>
              <a:ext cx="4176720" cy="122292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0800000">
              <a:off x="5240160" y="2133000"/>
              <a:ext cx="4176720" cy="12229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40160" y="2543040"/>
              <a:ext cx="4176720" cy="81360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073240" y="4797360"/>
            <a:ext cx="100800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abc7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24520" y="4797360"/>
            <a:ext cx="100836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88880" y="3573000"/>
            <a:ext cx="4176720" cy="1223280"/>
            <a:chOff x="488880" y="3573000"/>
            <a:chExt cx="4176720" cy="1223280"/>
          </a:xfrm>
        </p:grpSpPr>
        <p:sp>
          <p:nvSpPr>
            <p:cNvPr id="103" name=""/>
            <p:cNvSpPr/>
            <p:nvPr/>
          </p:nvSpPr>
          <p:spPr>
            <a:xfrm>
              <a:off x="488880" y="3573360"/>
              <a:ext cx="4176720" cy="12229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0800000">
              <a:off x="488880" y="3573000"/>
              <a:ext cx="4176720" cy="122292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8880" y="3982680"/>
              <a:ext cx="4176720" cy="81360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240160" y="3573000"/>
            <a:ext cx="4176720" cy="1223280"/>
            <a:chOff x="5240160" y="3573000"/>
            <a:chExt cx="4176720" cy="1223280"/>
          </a:xfrm>
        </p:grpSpPr>
        <p:sp>
          <p:nvSpPr>
            <p:cNvPr id="107" name=""/>
            <p:cNvSpPr/>
            <p:nvPr/>
          </p:nvSpPr>
          <p:spPr>
            <a:xfrm>
              <a:off x="5240160" y="3573360"/>
              <a:ext cx="4176720" cy="122292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0800000">
              <a:off x="5240160" y="3573000"/>
              <a:ext cx="4176720" cy="12229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40160" y="3982680"/>
              <a:ext cx="4176720" cy="81360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88880" y="5013000"/>
            <a:ext cx="4176720" cy="1223280"/>
            <a:chOff x="488880" y="5013000"/>
            <a:chExt cx="4176720" cy="1223280"/>
          </a:xfrm>
        </p:grpSpPr>
        <p:sp>
          <p:nvSpPr>
            <p:cNvPr id="111" name=""/>
            <p:cNvSpPr/>
            <p:nvPr/>
          </p:nvSpPr>
          <p:spPr>
            <a:xfrm>
              <a:off x="488880" y="5013360"/>
              <a:ext cx="4176720" cy="12229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0800000">
              <a:off x="488880" y="5013000"/>
              <a:ext cx="4176720" cy="122292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8880" y="5422680"/>
              <a:ext cx="4176720" cy="81360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5240160" y="5013000"/>
            <a:ext cx="4176720" cy="1223280"/>
            <a:chOff x="5240160" y="5013000"/>
            <a:chExt cx="4176720" cy="1223280"/>
          </a:xfrm>
        </p:grpSpPr>
        <p:sp>
          <p:nvSpPr>
            <p:cNvPr id="115" name=""/>
            <p:cNvSpPr/>
            <p:nvPr/>
          </p:nvSpPr>
          <p:spPr>
            <a:xfrm>
              <a:off x="5240160" y="5013360"/>
              <a:ext cx="4176720" cy="122292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0800000">
              <a:off x="5240160" y="5013000"/>
              <a:ext cx="4176720" cy="12229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40160" y="5422680"/>
              <a:ext cx="4176720" cy="81360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448160" y="1916280"/>
            <a:ext cx="1008000" cy="21744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c7e2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88880" y="692280"/>
            <a:ext cx="8928000" cy="1224000"/>
            <a:chOff x="488880" y="692280"/>
            <a:chExt cx="8928000" cy="1224000"/>
          </a:xfrm>
        </p:grpSpPr>
        <p:sp>
          <p:nvSpPr>
            <p:cNvPr id="120" name=""/>
            <p:cNvSpPr/>
            <p:nvPr/>
          </p:nvSpPr>
          <p:spPr>
            <a:xfrm>
              <a:off x="488880" y="692280"/>
              <a:ext cx="8928000" cy="122400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0800000">
              <a:off x="488880" y="691920"/>
              <a:ext cx="8928000" cy="122400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8880" y="1101600"/>
              <a:ext cx="8928000" cy="81432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4448160" y="3357720"/>
            <a:ext cx="1008000" cy="21744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c7e2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88880" y="2133720"/>
            <a:ext cx="8928000" cy="1224000"/>
            <a:chOff x="488880" y="2133720"/>
            <a:chExt cx="8928000" cy="1224000"/>
          </a:xfrm>
        </p:grpSpPr>
        <p:sp>
          <p:nvSpPr>
            <p:cNvPr id="125" name=""/>
            <p:cNvSpPr/>
            <p:nvPr/>
          </p:nvSpPr>
          <p:spPr>
            <a:xfrm>
              <a:off x="488880" y="2133720"/>
              <a:ext cx="8928000" cy="122400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0800000">
              <a:off x="488880" y="2133360"/>
              <a:ext cx="8928000" cy="122400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8880" y="2543040"/>
              <a:ext cx="8928000" cy="81432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448160" y="4797360"/>
            <a:ext cx="1008000" cy="21744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c7e2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88880" y="3573360"/>
            <a:ext cx="8928000" cy="1224000"/>
            <a:chOff x="488880" y="3573360"/>
            <a:chExt cx="8928000" cy="1224000"/>
          </a:xfrm>
        </p:grpSpPr>
        <p:sp>
          <p:nvSpPr>
            <p:cNvPr id="130" name=""/>
            <p:cNvSpPr/>
            <p:nvPr/>
          </p:nvSpPr>
          <p:spPr>
            <a:xfrm>
              <a:off x="488880" y="3573360"/>
              <a:ext cx="8928000" cy="122400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0800000">
              <a:off x="488880" y="3573000"/>
              <a:ext cx="8928000" cy="122400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8880" y="3982680"/>
              <a:ext cx="8928000" cy="81432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88880" y="5013360"/>
            <a:ext cx="8928000" cy="1224000"/>
            <a:chOff x="488880" y="5013360"/>
            <a:chExt cx="8928000" cy="1224000"/>
          </a:xfrm>
        </p:grpSpPr>
        <p:sp>
          <p:nvSpPr>
            <p:cNvPr id="134" name=""/>
            <p:cNvSpPr/>
            <p:nvPr/>
          </p:nvSpPr>
          <p:spPr>
            <a:xfrm>
              <a:off x="488880" y="5013360"/>
              <a:ext cx="8928000" cy="122400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0800000">
              <a:off x="488880" y="5013000"/>
              <a:ext cx="8928000" cy="122400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8880" y="5422680"/>
              <a:ext cx="8928000" cy="81432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073240" y="1628640"/>
            <a:ext cx="100800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abc7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24520" y="1628640"/>
            <a:ext cx="100836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488880" y="691920"/>
            <a:ext cx="4176720" cy="936000"/>
            <a:chOff x="488880" y="691920"/>
            <a:chExt cx="4176720" cy="936000"/>
          </a:xfrm>
        </p:grpSpPr>
        <p:sp>
          <p:nvSpPr>
            <p:cNvPr id="140" name=""/>
            <p:cNvSpPr/>
            <p:nvPr/>
          </p:nvSpPr>
          <p:spPr>
            <a:xfrm>
              <a:off x="488880" y="692280"/>
              <a:ext cx="4176720" cy="93564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0800000">
              <a:off x="488880" y="691560"/>
              <a:ext cx="4176720" cy="93564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8880" y="1005120"/>
              <a:ext cx="4176720" cy="62244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240160" y="691920"/>
            <a:ext cx="4176720" cy="936000"/>
            <a:chOff x="5240160" y="691920"/>
            <a:chExt cx="4176720" cy="936000"/>
          </a:xfrm>
        </p:grpSpPr>
        <p:sp>
          <p:nvSpPr>
            <p:cNvPr id="144" name=""/>
            <p:cNvSpPr/>
            <p:nvPr/>
          </p:nvSpPr>
          <p:spPr>
            <a:xfrm>
              <a:off x="5240160" y="692280"/>
              <a:ext cx="4176720" cy="93564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0800000">
              <a:off x="5240160" y="691560"/>
              <a:ext cx="4176720" cy="93564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240160" y="1005120"/>
              <a:ext cx="4176720" cy="62244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073240" y="2781360"/>
            <a:ext cx="100800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abc7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24520" y="2781360"/>
            <a:ext cx="100836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88880" y="1844640"/>
            <a:ext cx="4176720" cy="936000"/>
            <a:chOff x="488880" y="1844640"/>
            <a:chExt cx="4176720" cy="936000"/>
          </a:xfrm>
        </p:grpSpPr>
        <p:sp>
          <p:nvSpPr>
            <p:cNvPr id="150" name=""/>
            <p:cNvSpPr/>
            <p:nvPr/>
          </p:nvSpPr>
          <p:spPr>
            <a:xfrm>
              <a:off x="488880" y="1844640"/>
              <a:ext cx="4176720" cy="93600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0800000">
              <a:off x="488880" y="1844280"/>
              <a:ext cx="4176720" cy="93600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8880" y="2157840"/>
              <a:ext cx="4176720" cy="62280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240160" y="1844640"/>
            <a:ext cx="4176720" cy="936000"/>
            <a:chOff x="5240160" y="1844640"/>
            <a:chExt cx="4176720" cy="936000"/>
          </a:xfrm>
        </p:grpSpPr>
        <p:sp>
          <p:nvSpPr>
            <p:cNvPr id="154" name=""/>
            <p:cNvSpPr/>
            <p:nvPr/>
          </p:nvSpPr>
          <p:spPr>
            <a:xfrm>
              <a:off x="5240160" y="1844640"/>
              <a:ext cx="4176720" cy="93600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0800000">
              <a:off x="5240160" y="1844280"/>
              <a:ext cx="4176720" cy="93600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40160" y="2157840"/>
              <a:ext cx="4176720" cy="62280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2073240" y="3933720"/>
            <a:ext cx="100800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abc7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24520" y="3933720"/>
            <a:ext cx="100836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88880" y="2997000"/>
            <a:ext cx="4176720" cy="936000"/>
            <a:chOff x="488880" y="2997000"/>
            <a:chExt cx="4176720" cy="936000"/>
          </a:xfrm>
        </p:grpSpPr>
        <p:sp>
          <p:nvSpPr>
            <p:cNvPr id="160" name=""/>
            <p:cNvSpPr/>
            <p:nvPr/>
          </p:nvSpPr>
          <p:spPr>
            <a:xfrm>
              <a:off x="488880" y="2997360"/>
              <a:ext cx="4176720" cy="93564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0800000">
              <a:off x="488880" y="2997000"/>
              <a:ext cx="4176720" cy="93564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8880" y="3310200"/>
              <a:ext cx="4176720" cy="62244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240160" y="2997000"/>
            <a:ext cx="4176720" cy="936000"/>
            <a:chOff x="5240160" y="2997000"/>
            <a:chExt cx="4176720" cy="936000"/>
          </a:xfrm>
        </p:grpSpPr>
        <p:sp>
          <p:nvSpPr>
            <p:cNvPr id="164" name=""/>
            <p:cNvSpPr/>
            <p:nvPr/>
          </p:nvSpPr>
          <p:spPr>
            <a:xfrm>
              <a:off x="5240160" y="2997360"/>
              <a:ext cx="4176720" cy="93564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0800000">
              <a:off x="5240160" y="2997000"/>
              <a:ext cx="4176720" cy="93564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40160" y="3310200"/>
              <a:ext cx="4176720" cy="62244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073240" y="5084640"/>
            <a:ext cx="100800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abc7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24520" y="5084640"/>
            <a:ext cx="100836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88880" y="4147920"/>
            <a:ext cx="4176720" cy="936000"/>
            <a:chOff x="488880" y="4147920"/>
            <a:chExt cx="4176720" cy="936000"/>
          </a:xfrm>
        </p:grpSpPr>
        <p:sp>
          <p:nvSpPr>
            <p:cNvPr id="170" name=""/>
            <p:cNvSpPr/>
            <p:nvPr/>
          </p:nvSpPr>
          <p:spPr>
            <a:xfrm>
              <a:off x="488880" y="4148280"/>
              <a:ext cx="4176720" cy="93564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0800000">
              <a:off x="488880" y="4147920"/>
              <a:ext cx="4176720" cy="93564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8880" y="4461120"/>
              <a:ext cx="4176720" cy="62244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240160" y="4147920"/>
            <a:ext cx="4176720" cy="936000"/>
            <a:chOff x="5240160" y="4147920"/>
            <a:chExt cx="4176720" cy="936000"/>
          </a:xfrm>
        </p:grpSpPr>
        <p:sp>
          <p:nvSpPr>
            <p:cNvPr id="174" name=""/>
            <p:cNvSpPr/>
            <p:nvPr/>
          </p:nvSpPr>
          <p:spPr>
            <a:xfrm>
              <a:off x="5240160" y="4148280"/>
              <a:ext cx="4176720" cy="93564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0800000">
              <a:off x="5240160" y="4147920"/>
              <a:ext cx="4176720" cy="93564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40160" y="4461120"/>
              <a:ext cx="4176720" cy="62244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88880" y="5300640"/>
            <a:ext cx="4176720" cy="936000"/>
            <a:chOff x="488880" y="5300640"/>
            <a:chExt cx="4176720" cy="936000"/>
          </a:xfrm>
        </p:grpSpPr>
        <p:sp>
          <p:nvSpPr>
            <p:cNvPr id="178" name=""/>
            <p:cNvSpPr/>
            <p:nvPr/>
          </p:nvSpPr>
          <p:spPr>
            <a:xfrm>
              <a:off x="488880" y="5300640"/>
              <a:ext cx="4176720" cy="93600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0800000">
              <a:off x="488880" y="5300640"/>
              <a:ext cx="4176720" cy="93600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8880" y="5613840"/>
              <a:ext cx="4176720" cy="62280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5240160" y="5300640"/>
            <a:ext cx="4176720" cy="936000"/>
            <a:chOff x="5240160" y="5300640"/>
            <a:chExt cx="4176720" cy="936000"/>
          </a:xfrm>
        </p:grpSpPr>
        <p:sp>
          <p:nvSpPr>
            <p:cNvPr id="182" name=""/>
            <p:cNvSpPr/>
            <p:nvPr/>
          </p:nvSpPr>
          <p:spPr>
            <a:xfrm>
              <a:off x="5240160" y="5300640"/>
              <a:ext cx="4176720" cy="93600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0800000">
              <a:off x="5240160" y="5300640"/>
              <a:ext cx="4176720" cy="93600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40160" y="5613840"/>
              <a:ext cx="4176720" cy="62280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448160" y="1628640"/>
            <a:ext cx="1008000" cy="21780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c7e2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88880" y="691920"/>
            <a:ext cx="8928000" cy="936720"/>
            <a:chOff x="488880" y="691920"/>
            <a:chExt cx="8928000" cy="936720"/>
          </a:xfrm>
        </p:grpSpPr>
        <p:sp>
          <p:nvSpPr>
            <p:cNvPr id="187" name=""/>
            <p:cNvSpPr/>
            <p:nvPr/>
          </p:nvSpPr>
          <p:spPr>
            <a:xfrm>
              <a:off x="488880" y="692280"/>
              <a:ext cx="8928000" cy="93636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0800000">
              <a:off x="488880" y="691560"/>
              <a:ext cx="8928000" cy="93636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8880" y="1005480"/>
              <a:ext cx="8928000" cy="62316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4448160" y="2781360"/>
            <a:ext cx="1008000" cy="21744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c7e2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88880" y="1844640"/>
            <a:ext cx="8928000" cy="936720"/>
            <a:chOff x="488880" y="1844640"/>
            <a:chExt cx="8928000" cy="936720"/>
          </a:xfrm>
        </p:grpSpPr>
        <p:sp>
          <p:nvSpPr>
            <p:cNvPr id="192" name=""/>
            <p:cNvSpPr/>
            <p:nvPr/>
          </p:nvSpPr>
          <p:spPr>
            <a:xfrm>
              <a:off x="488880" y="1844640"/>
              <a:ext cx="8928000" cy="93672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0800000">
              <a:off x="488880" y="1844280"/>
              <a:ext cx="8928000" cy="93672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88880" y="2157840"/>
              <a:ext cx="8928000" cy="62316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4448160" y="3933720"/>
            <a:ext cx="1008000" cy="21744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c7e2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88880" y="2997000"/>
            <a:ext cx="8928000" cy="936720"/>
            <a:chOff x="488880" y="2997000"/>
            <a:chExt cx="8928000" cy="936720"/>
          </a:xfrm>
        </p:grpSpPr>
        <p:sp>
          <p:nvSpPr>
            <p:cNvPr id="197" name=""/>
            <p:cNvSpPr/>
            <p:nvPr/>
          </p:nvSpPr>
          <p:spPr>
            <a:xfrm>
              <a:off x="488880" y="2997360"/>
              <a:ext cx="8928000" cy="93636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0800000">
              <a:off x="488880" y="2996640"/>
              <a:ext cx="8928000" cy="93636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8880" y="3310560"/>
              <a:ext cx="8928000" cy="62316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448160" y="5086440"/>
            <a:ext cx="1008000" cy="21744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c7e2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88880" y="4149720"/>
            <a:ext cx="8928000" cy="936720"/>
            <a:chOff x="488880" y="4149720"/>
            <a:chExt cx="8928000" cy="936720"/>
          </a:xfrm>
        </p:grpSpPr>
        <p:sp>
          <p:nvSpPr>
            <p:cNvPr id="202" name=""/>
            <p:cNvSpPr/>
            <p:nvPr/>
          </p:nvSpPr>
          <p:spPr>
            <a:xfrm>
              <a:off x="488880" y="4149720"/>
              <a:ext cx="8928000" cy="93672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0800000">
              <a:off x="488880" y="4149360"/>
              <a:ext cx="8928000" cy="93672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8880" y="4462920"/>
              <a:ext cx="8928000" cy="62316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488880" y="5300640"/>
            <a:ext cx="8928000" cy="936720"/>
            <a:chOff x="488880" y="5300640"/>
            <a:chExt cx="8928000" cy="936720"/>
          </a:xfrm>
        </p:grpSpPr>
        <p:sp>
          <p:nvSpPr>
            <p:cNvPr id="206" name=""/>
            <p:cNvSpPr/>
            <p:nvPr/>
          </p:nvSpPr>
          <p:spPr>
            <a:xfrm>
              <a:off x="488880" y="5300640"/>
              <a:ext cx="8928000" cy="93672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0800000">
              <a:off x="488880" y="5300280"/>
              <a:ext cx="8928000" cy="93672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8880" y="5613840"/>
              <a:ext cx="8928000" cy="62316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073240" y="5156280"/>
            <a:ext cx="1008000" cy="20772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abc7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88880" y="5373360"/>
            <a:ext cx="4176720" cy="719280"/>
            <a:chOff x="488880" y="5373360"/>
            <a:chExt cx="4176720" cy="719280"/>
          </a:xfrm>
        </p:grpSpPr>
        <p:sp>
          <p:nvSpPr>
            <p:cNvPr id="211" name=""/>
            <p:cNvSpPr/>
            <p:nvPr/>
          </p:nvSpPr>
          <p:spPr>
            <a:xfrm>
              <a:off x="488880" y="5373720"/>
              <a:ext cx="4176720" cy="7189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0800000">
              <a:off x="488880" y="5373360"/>
              <a:ext cx="4176720" cy="71892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8880" y="5614200"/>
              <a:ext cx="4176720" cy="47808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6824520" y="5156280"/>
            <a:ext cx="1008360" cy="20772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240160" y="5373360"/>
            <a:ext cx="4176720" cy="719280"/>
            <a:chOff x="5240160" y="5373360"/>
            <a:chExt cx="4176720" cy="719280"/>
          </a:xfrm>
        </p:grpSpPr>
        <p:sp>
          <p:nvSpPr>
            <p:cNvPr id="216" name=""/>
            <p:cNvSpPr/>
            <p:nvPr/>
          </p:nvSpPr>
          <p:spPr>
            <a:xfrm>
              <a:off x="5240160" y="5373720"/>
              <a:ext cx="4176720" cy="71892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0800000">
              <a:off x="5240160" y="5373360"/>
              <a:ext cx="4176720" cy="7189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0160" y="5614200"/>
              <a:ext cx="4176720" cy="47808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2073240" y="4219560"/>
            <a:ext cx="100800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abc7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88880" y="4436640"/>
            <a:ext cx="4176720" cy="719280"/>
            <a:chOff x="488880" y="4436640"/>
            <a:chExt cx="4176720" cy="719280"/>
          </a:xfrm>
        </p:grpSpPr>
        <p:sp>
          <p:nvSpPr>
            <p:cNvPr id="221" name=""/>
            <p:cNvSpPr/>
            <p:nvPr/>
          </p:nvSpPr>
          <p:spPr>
            <a:xfrm>
              <a:off x="488880" y="4437000"/>
              <a:ext cx="4176720" cy="7189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0800000">
              <a:off x="488880" y="4436640"/>
              <a:ext cx="4176720" cy="71892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8880" y="4677480"/>
              <a:ext cx="4176720" cy="47808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6824520" y="4219560"/>
            <a:ext cx="100836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240160" y="4436640"/>
            <a:ext cx="4176720" cy="719280"/>
            <a:chOff x="5240160" y="4436640"/>
            <a:chExt cx="4176720" cy="719280"/>
          </a:xfrm>
        </p:grpSpPr>
        <p:sp>
          <p:nvSpPr>
            <p:cNvPr id="226" name=""/>
            <p:cNvSpPr/>
            <p:nvPr/>
          </p:nvSpPr>
          <p:spPr>
            <a:xfrm>
              <a:off x="5240160" y="4437000"/>
              <a:ext cx="4176720" cy="71892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0800000">
              <a:off x="5240160" y="4436640"/>
              <a:ext cx="4176720" cy="7189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40160" y="4677480"/>
              <a:ext cx="4176720" cy="47808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2073240" y="3282840"/>
            <a:ext cx="100800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abc7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88880" y="3499920"/>
            <a:ext cx="4176720" cy="719280"/>
            <a:chOff x="488880" y="3499920"/>
            <a:chExt cx="4176720" cy="719280"/>
          </a:xfrm>
        </p:grpSpPr>
        <p:sp>
          <p:nvSpPr>
            <p:cNvPr id="231" name=""/>
            <p:cNvSpPr/>
            <p:nvPr/>
          </p:nvSpPr>
          <p:spPr>
            <a:xfrm>
              <a:off x="488880" y="3500280"/>
              <a:ext cx="4176720" cy="7189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0800000">
              <a:off x="488880" y="3499920"/>
              <a:ext cx="4176720" cy="71892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8880" y="3740760"/>
              <a:ext cx="4176720" cy="47808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824520" y="3282840"/>
            <a:ext cx="100836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240160" y="3499920"/>
            <a:ext cx="4176720" cy="719280"/>
            <a:chOff x="5240160" y="3499920"/>
            <a:chExt cx="4176720" cy="719280"/>
          </a:xfrm>
        </p:grpSpPr>
        <p:sp>
          <p:nvSpPr>
            <p:cNvPr id="236" name=""/>
            <p:cNvSpPr/>
            <p:nvPr/>
          </p:nvSpPr>
          <p:spPr>
            <a:xfrm>
              <a:off x="5240160" y="3500280"/>
              <a:ext cx="4176720" cy="71892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10800000">
              <a:off x="5240160" y="3499920"/>
              <a:ext cx="4176720" cy="7189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40160" y="3740760"/>
              <a:ext cx="4176720" cy="47808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2073240" y="2347920"/>
            <a:ext cx="100800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abc7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88880" y="2565000"/>
            <a:ext cx="4176720" cy="719280"/>
            <a:chOff x="488880" y="2565000"/>
            <a:chExt cx="4176720" cy="719280"/>
          </a:xfrm>
        </p:grpSpPr>
        <p:sp>
          <p:nvSpPr>
            <p:cNvPr id="241" name=""/>
            <p:cNvSpPr/>
            <p:nvPr/>
          </p:nvSpPr>
          <p:spPr>
            <a:xfrm>
              <a:off x="488880" y="2565360"/>
              <a:ext cx="4176720" cy="7189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0800000">
              <a:off x="488880" y="2564640"/>
              <a:ext cx="4176720" cy="71892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8880" y="2805840"/>
              <a:ext cx="4176720" cy="47808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824520" y="2347920"/>
            <a:ext cx="100836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5240160" y="2565000"/>
            <a:ext cx="4176720" cy="719280"/>
            <a:chOff x="5240160" y="2565000"/>
            <a:chExt cx="4176720" cy="719280"/>
          </a:xfrm>
        </p:grpSpPr>
        <p:sp>
          <p:nvSpPr>
            <p:cNvPr id="246" name=""/>
            <p:cNvSpPr/>
            <p:nvPr/>
          </p:nvSpPr>
          <p:spPr>
            <a:xfrm>
              <a:off x="5240160" y="2565360"/>
              <a:ext cx="4176720" cy="71892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0800000">
              <a:off x="5240160" y="2564640"/>
              <a:ext cx="4176720" cy="7189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40160" y="2805840"/>
              <a:ext cx="4176720" cy="47808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073240" y="1411200"/>
            <a:ext cx="100800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abc7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488880" y="1628280"/>
            <a:ext cx="4176720" cy="719280"/>
            <a:chOff x="488880" y="1628280"/>
            <a:chExt cx="4176720" cy="719280"/>
          </a:xfrm>
        </p:grpSpPr>
        <p:sp>
          <p:nvSpPr>
            <p:cNvPr id="251" name=""/>
            <p:cNvSpPr/>
            <p:nvPr/>
          </p:nvSpPr>
          <p:spPr>
            <a:xfrm>
              <a:off x="488880" y="1628640"/>
              <a:ext cx="4176720" cy="7189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0800000">
              <a:off x="488880" y="1627920"/>
              <a:ext cx="4176720" cy="71892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8880" y="1869120"/>
              <a:ext cx="4176720" cy="47808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6824520" y="1411200"/>
            <a:ext cx="100836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240160" y="1628280"/>
            <a:ext cx="4176720" cy="719280"/>
            <a:chOff x="5240160" y="1628280"/>
            <a:chExt cx="4176720" cy="719280"/>
          </a:xfrm>
        </p:grpSpPr>
        <p:sp>
          <p:nvSpPr>
            <p:cNvPr id="256" name=""/>
            <p:cNvSpPr/>
            <p:nvPr/>
          </p:nvSpPr>
          <p:spPr>
            <a:xfrm>
              <a:off x="5240160" y="1628640"/>
              <a:ext cx="4176720" cy="71892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0800000">
              <a:off x="5240160" y="1627920"/>
              <a:ext cx="4176720" cy="7189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40160" y="1869120"/>
              <a:ext cx="4176720" cy="47808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88880" y="692280"/>
            <a:ext cx="4176720" cy="718560"/>
            <a:chOff x="488880" y="692280"/>
            <a:chExt cx="4176720" cy="718560"/>
          </a:xfrm>
        </p:grpSpPr>
        <p:sp>
          <p:nvSpPr>
            <p:cNvPr id="260" name=""/>
            <p:cNvSpPr/>
            <p:nvPr/>
          </p:nvSpPr>
          <p:spPr>
            <a:xfrm>
              <a:off x="488880" y="692280"/>
              <a:ext cx="4176720" cy="71856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0800000">
              <a:off x="488880" y="691920"/>
              <a:ext cx="4176720" cy="71856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8880" y="932400"/>
              <a:ext cx="4176720" cy="47808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5240160" y="692280"/>
            <a:ext cx="4176720" cy="718560"/>
            <a:chOff x="5240160" y="692280"/>
            <a:chExt cx="4176720" cy="718560"/>
          </a:xfrm>
        </p:grpSpPr>
        <p:sp>
          <p:nvSpPr>
            <p:cNvPr id="264" name=""/>
            <p:cNvSpPr/>
            <p:nvPr/>
          </p:nvSpPr>
          <p:spPr>
            <a:xfrm>
              <a:off x="5240160" y="692280"/>
              <a:ext cx="4176720" cy="71856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0800000">
              <a:off x="5240160" y="691920"/>
              <a:ext cx="4176720" cy="71856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40160" y="932400"/>
              <a:ext cx="4176720" cy="47808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448160" y="1413000"/>
            <a:ext cx="1008000" cy="21744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c7e2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88880" y="692280"/>
            <a:ext cx="8928000" cy="720720"/>
            <a:chOff x="488880" y="692280"/>
            <a:chExt cx="8928000" cy="720720"/>
          </a:xfrm>
        </p:grpSpPr>
        <p:sp>
          <p:nvSpPr>
            <p:cNvPr id="269" name=""/>
            <p:cNvSpPr/>
            <p:nvPr/>
          </p:nvSpPr>
          <p:spPr>
            <a:xfrm>
              <a:off x="488880" y="692280"/>
              <a:ext cx="8928000" cy="72072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488880" y="691920"/>
              <a:ext cx="8928000" cy="72072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88880" y="933120"/>
              <a:ext cx="8928000" cy="47952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4448160" y="2349360"/>
            <a:ext cx="1008000" cy="21780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c7e2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488880" y="1628640"/>
            <a:ext cx="8928000" cy="720720"/>
            <a:chOff x="488880" y="1628640"/>
            <a:chExt cx="8928000" cy="720720"/>
          </a:xfrm>
        </p:grpSpPr>
        <p:sp>
          <p:nvSpPr>
            <p:cNvPr id="274" name=""/>
            <p:cNvSpPr/>
            <p:nvPr/>
          </p:nvSpPr>
          <p:spPr>
            <a:xfrm>
              <a:off x="488880" y="1628640"/>
              <a:ext cx="8928000" cy="72072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0800000">
              <a:off x="488880" y="1628280"/>
              <a:ext cx="8928000" cy="72072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88880" y="1869480"/>
              <a:ext cx="8928000" cy="47952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4448160" y="3286080"/>
            <a:ext cx="1008000" cy="21744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c7e2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488880" y="2565360"/>
            <a:ext cx="8928000" cy="720720"/>
            <a:chOff x="488880" y="2565360"/>
            <a:chExt cx="8928000" cy="720720"/>
          </a:xfrm>
        </p:grpSpPr>
        <p:sp>
          <p:nvSpPr>
            <p:cNvPr id="279" name=""/>
            <p:cNvSpPr/>
            <p:nvPr/>
          </p:nvSpPr>
          <p:spPr>
            <a:xfrm>
              <a:off x="488880" y="2565360"/>
              <a:ext cx="8928000" cy="72072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0800000">
              <a:off x="488880" y="2565000"/>
              <a:ext cx="8928000" cy="72072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8880" y="2806200"/>
              <a:ext cx="8928000" cy="47952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4448160" y="4222800"/>
            <a:ext cx="1008000" cy="21744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c7e2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88880" y="3502080"/>
            <a:ext cx="8928000" cy="720720"/>
            <a:chOff x="488880" y="3502080"/>
            <a:chExt cx="8928000" cy="720720"/>
          </a:xfrm>
        </p:grpSpPr>
        <p:sp>
          <p:nvSpPr>
            <p:cNvPr id="284" name=""/>
            <p:cNvSpPr/>
            <p:nvPr/>
          </p:nvSpPr>
          <p:spPr>
            <a:xfrm>
              <a:off x="488880" y="3502080"/>
              <a:ext cx="8928000" cy="72072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0800000">
              <a:off x="488880" y="3501720"/>
              <a:ext cx="8928000" cy="72072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88880" y="3742920"/>
              <a:ext cx="8928000" cy="47952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4448160" y="5157720"/>
            <a:ext cx="1008000" cy="21744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c7e2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88880" y="4437000"/>
            <a:ext cx="8928000" cy="720720"/>
            <a:chOff x="488880" y="4437000"/>
            <a:chExt cx="8928000" cy="720720"/>
          </a:xfrm>
        </p:grpSpPr>
        <p:sp>
          <p:nvSpPr>
            <p:cNvPr id="289" name=""/>
            <p:cNvSpPr/>
            <p:nvPr/>
          </p:nvSpPr>
          <p:spPr>
            <a:xfrm>
              <a:off x="488880" y="4437000"/>
              <a:ext cx="8928000" cy="72072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10800000">
              <a:off x="488880" y="4436640"/>
              <a:ext cx="8928000" cy="72072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8880" y="4677840"/>
              <a:ext cx="8928000" cy="47952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488880" y="5373720"/>
            <a:ext cx="8928000" cy="720720"/>
            <a:chOff x="488880" y="5373720"/>
            <a:chExt cx="8928000" cy="720720"/>
          </a:xfrm>
        </p:grpSpPr>
        <p:sp>
          <p:nvSpPr>
            <p:cNvPr id="293" name=""/>
            <p:cNvSpPr/>
            <p:nvPr/>
          </p:nvSpPr>
          <p:spPr>
            <a:xfrm>
              <a:off x="488880" y="5373720"/>
              <a:ext cx="8928000" cy="72072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10800000">
              <a:off x="488880" y="5373360"/>
              <a:ext cx="8928000" cy="72072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8880" y="5614560"/>
              <a:ext cx="8928000" cy="47952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dafec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073240" y="5227560"/>
            <a:ext cx="100800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abc7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488880" y="5445000"/>
            <a:ext cx="4176720" cy="576000"/>
            <a:chOff x="488880" y="5445000"/>
            <a:chExt cx="4176720" cy="576000"/>
          </a:xfrm>
        </p:grpSpPr>
        <p:sp>
          <p:nvSpPr>
            <p:cNvPr id="298" name=""/>
            <p:cNvSpPr/>
            <p:nvPr/>
          </p:nvSpPr>
          <p:spPr>
            <a:xfrm>
              <a:off x="488880" y="5445000"/>
              <a:ext cx="4176720" cy="57600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0800000">
              <a:off x="488880" y="5445000"/>
              <a:ext cx="4176720" cy="57600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88880" y="5637600"/>
              <a:ext cx="4176720" cy="38304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824520" y="5227560"/>
            <a:ext cx="100836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5240160" y="5445000"/>
            <a:ext cx="4176720" cy="576000"/>
            <a:chOff x="5240160" y="5445000"/>
            <a:chExt cx="4176720" cy="576000"/>
          </a:xfrm>
        </p:grpSpPr>
        <p:sp>
          <p:nvSpPr>
            <p:cNvPr id="303" name=""/>
            <p:cNvSpPr/>
            <p:nvPr/>
          </p:nvSpPr>
          <p:spPr>
            <a:xfrm>
              <a:off x="5240160" y="5445000"/>
              <a:ext cx="4176720" cy="57600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0800000">
              <a:off x="5240160" y="5445000"/>
              <a:ext cx="4176720" cy="57600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40160" y="5637600"/>
              <a:ext cx="4176720" cy="38304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2073240" y="4435560"/>
            <a:ext cx="1008000" cy="20772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abc7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488880" y="4653000"/>
            <a:ext cx="4176720" cy="576000"/>
            <a:chOff x="488880" y="4653000"/>
            <a:chExt cx="4176720" cy="576000"/>
          </a:xfrm>
        </p:grpSpPr>
        <p:sp>
          <p:nvSpPr>
            <p:cNvPr id="308" name=""/>
            <p:cNvSpPr/>
            <p:nvPr/>
          </p:nvSpPr>
          <p:spPr>
            <a:xfrm>
              <a:off x="488880" y="4653000"/>
              <a:ext cx="4176720" cy="57600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0800000">
              <a:off x="488880" y="4653000"/>
              <a:ext cx="4176720" cy="57600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88880" y="4845600"/>
              <a:ext cx="4176720" cy="38304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6824520" y="4435560"/>
            <a:ext cx="1008360" cy="20772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240160" y="4653000"/>
            <a:ext cx="4176720" cy="576000"/>
            <a:chOff x="5240160" y="4653000"/>
            <a:chExt cx="4176720" cy="576000"/>
          </a:xfrm>
        </p:grpSpPr>
        <p:sp>
          <p:nvSpPr>
            <p:cNvPr id="313" name=""/>
            <p:cNvSpPr/>
            <p:nvPr/>
          </p:nvSpPr>
          <p:spPr>
            <a:xfrm>
              <a:off x="5240160" y="4653000"/>
              <a:ext cx="4176720" cy="57600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0800000">
              <a:off x="5240160" y="4653000"/>
              <a:ext cx="4176720" cy="57600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40160" y="4845600"/>
              <a:ext cx="4176720" cy="38304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2073240" y="3643200"/>
            <a:ext cx="100800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abc7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488880" y="3860640"/>
            <a:ext cx="4176720" cy="576000"/>
            <a:chOff x="488880" y="3860640"/>
            <a:chExt cx="4176720" cy="576000"/>
          </a:xfrm>
        </p:grpSpPr>
        <p:sp>
          <p:nvSpPr>
            <p:cNvPr id="318" name=""/>
            <p:cNvSpPr/>
            <p:nvPr/>
          </p:nvSpPr>
          <p:spPr>
            <a:xfrm>
              <a:off x="488880" y="3860640"/>
              <a:ext cx="4176720" cy="57600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0800000">
              <a:off x="488880" y="3860640"/>
              <a:ext cx="4176720" cy="57600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8880" y="4053240"/>
              <a:ext cx="4176720" cy="38304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6824520" y="3643200"/>
            <a:ext cx="100836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5240160" y="3860640"/>
            <a:ext cx="4176720" cy="576000"/>
            <a:chOff x="5240160" y="3860640"/>
            <a:chExt cx="4176720" cy="576000"/>
          </a:xfrm>
        </p:grpSpPr>
        <p:sp>
          <p:nvSpPr>
            <p:cNvPr id="323" name=""/>
            <p:cNvSpPr/>
            <p:nvPr/>
          </p:nvSpPr>
          <p:spPr>
            <a:xfrm>
              <a:off x="5240160" y="3860640"/>
              <a:ext cx="4176720" cy="57600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10800000">
              <a:off x="5240160" y="3860640"/>
              <a:ext cx="4176720" cy="57600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240160" y="4053240"/>
              <a:ext cx="4176720" cy="38304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2073240" y="2851200"/>
            <a:ext cx="100800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abc7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488880" y="3068640"/>
            <a:ext cx="4176720" cy="576000"/>
            <a:chOff x="488880" y="3068640"/>
            <a:chExt cx="4176720" cy="576000"/>
          </a:xfrm>
        </p:grpSpPr>
        <p:sp>
          <p:nvSpPr>
            <p:cNvPr id="328" name=""/>
            <p:cNvSpPr/>
            <p:nvPr/>
          </p:nvSpPr>
          <p:spPr>
            <a:xfrm>
              <a:off x="488880" y="3068640"/>
              <a:ext cx="4176720" cy="57600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10800000">
              <a:off x="488880" y="3068640"/>
              <a:ext cx="4176720" cy="57600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88880" y="3261240"/>
              <a:ext cx="4176720" cy="38304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6824520" y="2851200"/>
            <a:ext cx="100836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5240160" y="3068640"/>
            <a:ext cx="4176720" cy="576000"/>
            <a:chOff x="5240160" y="3068640"/>
            <a:chExt cx="4176720" cy="576000"/>
          </a:xfrm>
        </p:grpSpPr>
        <p:sp>
          <p:nvSpPr>
            <p:cNvPr id="333" name=""/>
            <p:cNvSpPr/>
            <p:nvPr/>
          </p:nvSpPr>
          <p:spPr>
            <a:xfrm>
              <a:off x="5240160" y="3068640"/>
              <a:ext cx="4176720" cy="57600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10800000">
              <a:off x="5240160" y="3068640"/>
              <a:ext cx="4176720" cy="57600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240160" y="3261240"/>
              <a:ext cx="4176720" cy="38304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2073240" y="2058840"/>
            <a:ext cx="100800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abc7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88880" y="2276280"/>
            <a:ext cx="4176720" cy="576000"/>
            <a:chOff x="488880" y="2276280"/>
            <a:chExt cx="4176720" cy="576000"/>
          </a:xfrm>
        </p:grpSpPr>
        <p:sp>
          <p:nvSpPr>
            <p:cNvPr id="338" name=""/>
            <p:cNvSpPr/>
            <p:nvPr/>
          </p:nvSpPr>
          <p:spPr>
            <a:xfrm>
              <a:off x="488880" y="2276640"/>
              <a:ext cx="4176720" cy="57564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10800000">
              <a:off x="488880" y="2275920"/>
              <a:ext cx="4176720" cy="57564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88880" y="2469240"/>
              <a:ext cx="4176720" cy="38304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6824520" y="2058840"/>
            <a:ext cx="100836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240160" y="2276280"/>
            <a:ext cx="4176720" cy="576000"/>
            <a:chOff x="5240160" y="2276280"/>
            <a:chExt cx="4176720" cy="576000"/>
          </a:xfrm>
        </p:grpSpPr>
        <p:sp>
          <p:nvSpPr>
            <p:cNvPr id="343" name=""/>
            <p:cNvSpPr/>
            <p:nvPr/>
          </p:nvSpPr>
          <p:spPr>
            <a:xfrm>
              <a:off x="5240160" y="2276640"/>
              <a:ext cx="4176720" cy="57564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10800000">
              <a:off x="5240160" y="2275920"/>
              <a:ext cx="4176720" cy="57564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240160" y="2469240"/>
              <a:ext cx="4176720" cy="38304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073240" y="1266840"/>
            <a:ext cx="100800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abc7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488880" y="1484280"/>
            <a:ext cx="4176720" cy="576000"/>
            <a:chOff x="488880" y="1484280"/>
            <a:chExt cx="4176720" cy="576000"/>
          </a:xfrm>
        </p:grpSpPr>
        <p:sp>
          <p:nvSpPr>
            <p:cNvPr id="348" name=""/>
            <p:cNvSpPr/>
            <p:nvPr/>
          </p:nvSpPr>
          <p:spPr>
            <a:xfrm>
              <a:off x="488880" y="1484280"/>
              <a:ext cx="4176720" cy="57600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10800000">
              <a:off x="488880" y="1483920"/>
              <a:ext cx="4176720" cy="57600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88880" y="1676880"/>
              <a:ext cx="4176720" cy="38304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6824520" y="1266840"/>
            <a:ext cx="1008360" cy="208080"/>
          </a:xfrm>
          <a:custGeom>
            <a:avLst/>
            <a:gdLst/>
            <a:ahLst/>
            <a:rect l="l" t="t" r="r" b="b"/>
            <a:pathLst>
              <a:path w="635" h="131">
                <a:moveTo>
                  <a:pt x="453" y="0"/>
                </a:moveTo>
                <a:lnTo>
                  <a:pt x="181" y="0"/>
                </a:lnTo>
                <a:lnTo>
                  <a:pt x="181" y="46"/>
                </a:lnTo>
                <a:lnTo>
                  <a:pt x="0" y="46"/>
                </a:lnTo>
                <a:lnTo>
                  <a:pt x="317" y="131"/>
                </a:lnTo>
                <a:lnTo>
                  <a:pt x="635" y="45"/>
                </a:lnTo>
                <a:lnTo>
                  <a:pt x="453" y="45"/>
                </a:lnTo>
                <a:lnTo>
                  <a:pt x="453" y="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240160" y="1484280"/>
            <a:ext cx="4176720" cy="576000"/>
            <a:chOff x="5240160" y="1484280"/>
            <a:chExt cx="4176720" cy="576000"/>
          </a:xfrm>
        </p:grpSpPr>
        <p:sp>
          <p:nvSpPr>
            <p:cNvPr id="353" name=""/>
            <p:cNvSpPr/>
            <p:nvPr/>
          </p:nvSpPr>
          <p:spPr>
            <a:xfrm>
              <a:off x="5240160" y="1484280"/>
              <a:ext cx="4176720" cy="57600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0800000">
              <a:off x="5240160" y="1483920"/>
              <a:ext cx="4176720" cy="57600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240160" y="1676880"/>
              <a:ext cx="4176720" cy="38304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88880" y="691920"/>
            <a:ext cx="4176720" cy="576000"/>
            <a:chOff x="488880" y="691920"/>
            <a:chExt cx="4176720" cy="576000"/>
          </a:xfrm>
        </p:grpSpPr>
        <p:sp>
          <p:nvSpPr>
            <p:cNvPr id="357" name=""/>
            <p:cNvSpPr/>
            <p:nvPr/>
          </p:nvSpPr>
          <p:spPr>
            <a:xfrm>
              <a:off x="488880" y="692280"/>
              <a:ext cx="4176720" cy="57564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10800000">
              <a:off x="488880" y="691560"/>
              <a:ext cx="4176720" cy="57564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88880" y="884880"/>
              <a:ext cx="4176720" cy="38304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8ec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240160" y="691920"/>
            <a:ext cx="4176720" cy="576000"/>
            <a:chOff x="5240160" y="691920"/>
            <a:chExt cx="4176720" cy="576000"/>
          </a:xfrm>
        </p:grpSpPr>
        <p:sp>
          <p:nvSpPr>
            <p:cNvPr id="361" name=""/>
            <p:cNvSpPr/>
            <p:nvPr/>
          </p:nvSpPr>
          <p:spPr>
            <a:xfrm>
              <a:off x="5240160" y="692280"/>
              <a:ext cx="4176720" cy="57564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10800000">
              <a:off x="5240160" y="691560"/>
              <a:ext cx="4176720" cy="57564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240160" y="884880"/>
              <a:ext cx="4176720" cy="383040"/>
            </a:xfrm>
            <a:custGeom>
              <a:avLst/>
              <a:gdLst/>
              <a:ahLst/>
              <a:rect l="l" t="t" r="r" b="b"/>
              <a:pathLst>
                <a:path w="2631" h="151">
                  <a:moveTo>
                    <a:pt x="0" y="60"/>
                  </a:moveTo>
                  <a:cubicBezTo>
                    <a:pt x="113" y="37"/>
                    <a:pt x="340" y="15"/>
                    <a:pt x="680" y="15"/>
                  </a:cubicBezTo>
                  <a:cubicBezTo>
                    <a:pt x="1020" y="15"/>
                    <a:pt x="1716" y="60"/>
                    <a:pt x="2041" y="60"/>
                  </a:cubicBezTo>
                  <a:cubicBezTo>
                    <a:pt x="2366" y="60"/>
                    <a:pt x="2533" y="0"/>
                    <a:pt x="2631" y="15"/>
                  </a:cubicBezTo>
                  <a:lnTo>
                    <a:pt x="2631" y="151"/>
                  </a:lnTo>
                  <a:lnTo>
                    <a:pt x="0" y="151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edab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2T00:57:28Z</dcterms:created>
  <dc:creator>http://www.digipot.net</dc:creator>
  <dc:description/>
  <dc:language>en-US</dc:language>
  <cp:lastModifiedBy>http://www.digipot.net</cp:lastModifiedBy>
  <dcterms:modified xsi:type="dcterms:W3CDTF">2012-07-10T05:03:40Z</dcterms:modified>
  <cp:revision>1</cp:revision>
  <dc:subject>PPT177_フロー図</dc:subject>
  <dc:title>PPT177_フロー図</dc:title>
</cp:coreProperties>
</file>